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7.xml.rels" ContentType="application/vnd.openxmlformats-package.relationships+xml"/>
  <Override PartName="/ppt/notesSlides/notesSlide67.xml" ContentType="application/vnd.openxmlformats-officedocument.presentationml.notesSlide+xml"/>
  <Override PartName="/ppt/_rels/presentation.xml.rels" ContentType="application/vnd.openxmlformats-package.relationships+xml"/>
  <Override PartName="/ppt/media/image56.jpeg" ContentType="image/jpeg"/>
  <Override PartName="/ppt/media/image53.png" ContentType="image/png"/>
  <Override PartName="/ppt/media/image55.png" ContentType="image/png"/>
  <Override PartName="/ppt/media/image49.wmf" ContentType="image/x-wmf"/>
  <Override PartName="/ppt/media/image10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9.png" ContentType="image/png"/>
  <Override PartName="/ppt/media/image86.png" ContentType="image/png"/>
  <Override PartName="/ppt/media/image40.wmf" ContentType="image/x-wmf"/>
  <Override PartName="/ppt/media/image18.png" ContentType="image/png"/>
  <Override PartName="/ppt/media/image83.png" ContentType="image/png"/>
  <Override PartName="/ppt/media/image37.png" ContentType="image/png"/>
  <Override PartName="/ppt/media/image36.wmf" ContentType="image/x-wmf"/>
  <Override PartName="/ppt/media/image68.jpeg" ContentType="image/jpeg"/>
  <Override PartName="/ppt/media/image34.wmf" ContentType="image/x-wmf"/>
  <Override PartName="/ppt/media/image77.png" ContentType="image/png"/>
  <Override PartName="/ppt/media/image52.jpeg" ContentType="image/jpeg"/>
  <Override PartName="/ppt/media/image13.png" ContentType="image/png"/>
  <Override PartName="/ppt/media/image1.png" ContentType="image/png"/>
  <Override PartName="/ppt/media/image33.wmf" ContentType="image/x-wmf"/>
  <Override PartName="/ppt/media/image76.png" ContentType="image/png"/>
  <Override PartName="/ppt/media/image32.wmf" ContentType="image/x-wmf"/>
  <Override PartName="/ppt/media/image75.png" ContentType="image/png"/>
  <Override PartName="/ppt/media/image101.jpeg" ContentType="image/jpeg"/>
  <Override PartName="/ppt/media/image31.jpeg" ContentType="image/jpeg"/>
  <Override PartName="/ppt/media/image28.wmf" ContentType="image/x-wmf"/>
  <Override PartName="/ppt/media/image93.wmf" ContentType="image/x-wmf"/>
  <Override PartName="/ppt/media/image12.png" ContentType="image/png"/>
  <Override PartName="/ppt/media/image50.wmf" ContentType="image/x-wmf"/>
  <Override PartName="/ppt/media/image47.png" ContentType="image/png"/>
  <Override PartName="/ppt/media/image35.jpeg" ContentType="image/jpeg"/>
  <Override PartName="/ppt/media/image10.png" ContentType="image/png"/>
  <Override PartName="/ppt/media/image107.png" ContentType="image/png"/>
  <Override PartName="/ppt/media/image42.wmf" ContentType="image/x-wmf"/>
  <Override PartName="/ppt/media/image8.png" ContentType="image/png"/>
  <Override PartName="/ppt/media/image85.png" ContentType="image/png"/>
  <Override PartName="/ppt/media/image102.jpeg" ContentType="image/jpeg"/>
  <Override PartName="/ppt/media/image51.wmf" ContentType="image/x-wmf"/>
  <Override PartName="/ppt/media/image11.png" ContentType="image/png"/>
  <Override PartName="/ppt/media/image108.png" ContentType="image/png"/>
  <Override PartName="/ppt/media/image7.jpeg" ContentType="image/jpeg"/>
  <Override PartName="/ppt/media/image81.png" ContentType="image/png"/>
  <Override PartName="/ppt/media/image57.png" ContentType="image/png"/>
  <Override PartName="/ppt/media/image20.png" ContentType="image/png"/>
  <Override PartName="/ppt/media/image88.wmf" ContentType="image/x-wmf"/>
  <Override PartName="/ppt/media/image54.jpeg" ContentType="image/jpeg"/>
  <Override PartName="/ppt/media/image41.wmf" ContentType="image/x-wmf"/>
  <Override PartName="/ppt/media/image79.jpeg" ContentType="image/jpeg"/>
  <Override PartName="/ppt/media/image84.png" ContentType="image/png"/>
  <Override PartName="/ppt/media/image60.png" ContentType="image/png"/>
  <Override PartName="/ppt/media/image97.png" ContentType="image/png"/>
  <Override PartName="/ppt/media/image21.wmf" ContentType="image/x-wmf"/>
  <Override PartName="/ppt/media/image6.jpeg" ContentType="image/jpeg"/>
  <Override PartName="/ppt/media/image58.wmf" ContentType="image/x-wmf"/>
  <Override PartName="/ppt/media/image62.wmf" ContentType="image/x-wmf"/>
  <Override PartName="/ppt/media/image99.wmf" ContentType="image/x-wmf"/>
  <Override PartName="/ppt/media/image67.wmf" ContentType="image/x-wmf"/>
  <Override PartName="/ppt/media/image27.png" ContentType="image/png"/>
  <Override PartName="/ppt/media/image30.wmf" ContentType="image/x-wmf"/>
  <Override PartName="/ppt/media/image69.wmf" ContentType="image/x-wmf"/>
  <Override PartName="/ppt/media/image71.wmf" ContentType="image/x-wmf"/>
  <Override PartName="/ppt/media/image72.wmf" ContentType="image/x-wmf"/>
  <Override PartName="/ppt/media/image87.jpeg" ContentType="image/jpeg"/>
  <Override PartName="/ppt/media/image103.png" ContentType="image/png"/>
  <Override PartName="/ppt/media/image74.wmf" ContentType="image/x-wmf"/>
  <Override PartName="/ppt/media/image111.png" ContentType="image/png"/>
  <Override PartName="/ppt/media/image25.png" ContentType="image/png"/>
  <Override PartName="/ppt/media/image64.jpeg" ContentType="image/jpeg"/>
  <Override PartName="/ppt/media/image61.wmf" ContentType="image/x-wmf"/>
  <Override PartName="/ppt/media/image98.wmf" ContentType="image/x-wmf"/>
  <Override PartName="/ppt/media/image19.wmf" ContentType="image/x-wmf"/>
  <Override PartName="/ppt/media/image96.wmf" ContentType="image/x-wmf"/>
  <Override PartName="/ppt/media/image73.wmf" ContentType="image/x-wmf"/>
  <Override PartName="/ppt/media/image110.png" ContentType="image/png"/>
  <Override PartName="/ppt/media/image95.wmf" ContentType="image/x-wmf"/>
  <Override PartName="/ppt/media/image109.jpeg" ContentType="image/jpeg"/>
  <Override PartName="/ppt/media/image70.wmf" ContentType="image/x-wmf"/>
  <Override PartName="/ppt/media/image3.jpeg" ContentType="image/jpeg"/>
  <Override PartName="/ppt/media/image105.png" ContentType="image/png"/>
  <Override PartName="/ppt/media/image59.wmf" ContentType="image/x-wmf"/>
  <Override PartName="/ppt/media/image104.wmf" ContentType="image/x-wmf"/>
  <Override PartName="/ppt/media/image63.wmf" ContentType="image/x-wmf"/>
  <Override PartName="/ppt/media/image78.png" ContentType="image/png"/>
  <Override PartName="/ppt/media/image90.wmf" ContentType="image/x-wmf"/>
  <Override PartName="/ppt/media/image5.jpeg" ContentType="image/jpeg"/>
  <Override PartName="/ppt/media/image48.wmf" ContentType="image/x-wmf"/>
  <Override PartName="/ppt/media/image91.wmf" ContentType="image/x-wmf"/>
  <Override PartName="/ppt/media/image89.wmf" ContentType="image/x-wmf"/>
  <Override PartName="/ppt/media/image26.png" ContentType="image/png"/>
  <Override PartName="/ppt/media/image24.wmf" ContentType="image/x-wmf"/>
  <Override PartName="/ppt/media/image66.png" ContentType="image/png"/>
  <Override PartName="/ppt/media/image23.wmf" ContentType="image/x-wmf"/>
  <Override PartName="/ppt/media/image22.wmf" ContentType="image/x-wmf"/>
  <Override PartName="/ppt/media/image80.jpeg" ContentType="image/jpeg"/>
  <Override PartName="/ppt/media/image65.png" ContentType="image/png"/>
  <Override PartName="/ppt/media/image106.png" ContentType="image/png"/>
  <Override PartName="/ppt/media/image16.jpeg" ContentType="image/jpeg"/>
  <Override PartName="/ppt/media/image29.wmf" ContentType="image/x-wmf"/>
  <Override PartName="/ppt/media/image94.wmf" ContentType="image/x-wmf"/>
  <Override PartName="/ppt/media/image112.jpeg" ContentType="image/jpeg"/>
  <Override PartName="/ppt/media/image15.png" ContentType="image/png"/>
  <Override PartName="/ppt/media/image92.jpeg" ContentType="image/jpeg"/>
  <Override PartName="/ppt/media/image2.png" ContentType="image/png"/>
  <Override PartName="/ppt/media/image14.png" ContentType="image/png"/>
  <Override PartName="/ppt/media/image4.jpeg" ContentType="image/jpeg"/>
  <Override PartName="/ppt/media/image38.wmf" ContentType="image/x-wmf"/>
  <Override PartName="/ppt/media/image39.jpeg" ContentType="image/jpeg"/>
  <Override PartName="/ppt/media/image17.png" ContentType="image/png"/>
  <Override PartName="/ppt/media/image8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30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132.xml.rels" ContentType="application/vnd.openxmlformats-package.relationships+xml"/>
  <Override PartName="/ppt/slides/_rels/slide5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3.xml.rels" ContentType="application/vnd.openxmlformats-package.relationships+xml"/>
  <Override PartName="/ppt/slides/_rels/slide51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2.xml.rels" ContentType="application/vnd.openxmlformats-package.relationships+xml"/>
  <Override PartName="/ppt/slides/_rels/slide13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5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8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135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49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124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4A8B4-D7DA-4B69-B227-44EE2FC378CD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Να αλλάξω τη γραμματοσειρά και το μέγεθος των γραμμάτω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AA78-B3B3-4B24-BD16-63FFCF64D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D1E5-C609-4785-BEB2-EF4C39E5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45EF-F200-4F24-84B1-3CB6BD99A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5023-1E65-4C85-8E23-21BF924C5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FAD7-22E9-431B-B0AE-88101319A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D8ED-A32F-4DF5-95CB-A94A61A1B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BAED-CD83-4765-A42A-3BEB444E7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2967-02C8-4E2E-AF9F-6A3EA3994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E403-23B0-47AF-88F5-DE100EEF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B2F8-E4F7-4BE7-A6B8-DAAC22DF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9613-D7F7-4ABE-83A7-C79D7E33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9134-DA9F-4EAE-BFC7-0139D065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7D214-9613-4D06-8A4F-2D2BE687FB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533520" y="228600"/>
            <a:ext cx="1295280" cy="8985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195640" y="620640"/>
            <a:ext cx="5256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8.wmf"/><Relationship Id="rId3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9.wmf"/><Relationship Id="rId3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0.wmf"/><Relationship Id="rId3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1.wmf"/><Relationship Id="rId3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3.wmf"/><Relationship Id="rId3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5.wmf"/><Relationship Id="rId5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6.wmf"/><Relationship Id="rId3" Type="http://schemas.openxmlformats.org/officeDocument/2006/relationships/image" Target="../media/image97.pn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9.wmf"/><Relationship Id="rId5" Type="http://schemas.openxmlformats.org/officeDocument/2006/relationships/slideLayout" Target="../slideLayouts/slideLayout8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0.wmf"/><Relationship Id="rId3" Type="http://schemas.openxmlformats.org/officeDocument/2006/relationships/slideLayout" Target="../slideLayouts/slideLayout8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01.jpeg"/><Relationship Id="rId2" Type="http://schemas.openxmlformats.org/officeDocument/2006/relationships/image" Target="../media/image102.jpeg"/><Relationship Id="rId3" Type="http://schemas.openxmlformats.org/officeDocument/2006/relationships/image" Target="../media/image103.png"/><Relationship Id="rId4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4.wmf"/><Relationship Id="rId3" Type="http://schemas.openxmlformats.org/officeDocument/2006/relationships/slideLayout" Target="../slideLayouts/slideLayout10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05.png"/><Relationship Id="rId2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07.png"/><Relationship Id="rId2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08.png"/><Relationship Id="rId2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09.jpeg"/><Relationship Id="rId2" Type="http://schemas.openxmlformats.org/officeDocument/2006/relationships/image" Target="../media/image110.png"/><Relationship Id="rId3" Type="http://schemas.openxmlformats.org/officeDocument/2006/relationships/image" Target="../media/image111.png"/><Relationship Id="rId4" Type="http://schemas.openxmlformats.org/officeDocument/2006/relationships/image" Target="../media/image11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21.xml"/><Relationship Id="rId3" Type="http://schemas.openxmlformats.org/officeDocument/2006/relationships/slide" Target="slide61.xml"/><Relationship Id="rId4" Type="http://schemas.openxmlformats.org/officeDocument/2006/relationships/slide" Target="slide66.xml"/><Relationship Id="rId5" Type="http://schemas.openxmlformats.org/officeDocument/2006/relationships/slide" Target="slide73.xml"/><Relationship Id="rId6" Type="http://schemas.openxmlformats.org/officeDocument/2006/relationships/slide" Target="slide92.xml"/><Relationship Id="rId7" Type="http://schemas.openxmlformats.org/officeDocument/2006/relationships/slide" Target="slide99.xml"/><Relationship Id="rId8" Type="http://schemas.openxmlformats.org/officeDocument/2006/relationships/slide" Target="slide113.xml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6.xml"/><Relationship Id="rId3" Type="http://schemas.openxmlformats.org/officeDocument/2006/relationships/slide" Target="slide27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2.wmf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8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8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9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1.wmf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3.wmf"/><Relationship Id="rId4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8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wmf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3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4.wmf"/><Relationship Id="rId14" Type="http://schemas.openxmlformats.org/officeDocument/2006/relationships/slideLayout" Target="../slideLayouts/slideLayout8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slideLayout" Target="../slideLayouts/slideLayout8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" Target="slide90.xml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8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slide" Target="slide88.xml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" Target="slide17.xml"/><Relationship Id="rId3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1.png"/><Relationship Id="rId3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3.png"/><Relationship Id="rId3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pn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17524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Χημεία και Καθημερινή Ζωή.</a:t>
            </a:r>
            <a:r>
              <a:rPr b="1" lang="el-G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Η Χημεία της Καθαριότητας.</a:t>
            </a:r>
            <a:r>
              <a:rPr b="1" lang="el-G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Η Πράσινη Προσέγγιση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880" y="37335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Γκέκας Γεώργιος, Δημητριάδου Άννα,Τζελέπη Λαμπριν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Υπεύθυνοι καθηγητές:  Α.Ι. Μαρούλ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Κ. Χατζηαντωνίου- Μαρούλ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Θεσσαλονίκη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27280" y="228600"/>
            <a:ext cx="69595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ριστοτέλειο Πανεπιστήμιο Θεσσαλονίκης, Τμήμα Χημεία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ιαπανεπιστημιακό Διατμηματικό Πρόγραμμ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εταπτυχιακών Σπουδών ΔιΧηΝΕ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26920" y="620640"/>
            <a:ext cx="633600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Δεκαετία 19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πορρυπαντικά για πλύσιμο σε πιο κρύο νερ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Υγρά απορρυπαντικά για τα πιάτ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υμπυκνωμένες σκόνες για το πλύσιμο των ρούχω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Δεκαετία 19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Υπερσυμπυκνωμένες σκόνες και υγρά απορρυπαντικ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Βελτιωμένα μαλακτικά υφασμάτω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l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για το πλύσιμο των πιάτω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νταλλακτικά καθαριστικών προϊόντω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162920" y="1125360"/>
            <a:ext cx="1015920" cy="1368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086600" y="4495680"/>
            <a:ext cx="1297080" cy="1095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8" name="ashama" descr=""/>
          <p:cNvPicPr/>
          <p:nvPr/>
        </p:nvPicPr>
        <p:blipFill>
          <a:blip r:embed="rId1"/>
          <a:stretch/>
        </p:blipFill>
        <p:spPr>
          <a:xfrm>
            <a:off x="5940360" y="2060640"/>
            <a:ext cx="2619360" cy="3240000"/>
          </a:xfrm>
          <a:prstGeom prst="rect">
            <a:avLst/>
          </a:prstGeom>
          <a:ln w="0">
            <a:noFill/>
          </a:ln>
        </p:spPr>
      </p:pic>
      <p:sp>
        <p:nvSpPr>
          <p:cNvPr id="709" name=""/>
          <p:cNvSpPr/>
          <p:nvPr/>
        </p:nvSpPr>
        <p:spPr>
          <a:xfrm>
            <a:off x="5867640" y="182520"/>
            <a:ext cx="315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Καθαριότητα του σώματο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Σαμπουάν και Αφρόλουτρα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85800" y="1846440"/>
            <a:ext cx="453384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Σκοπός του σαμπουάν είναι ο καθαρισμός των μαλλιών, χωρίς την απομάκρυνση του φυσικού λίπους της τρίχα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Σκοπός του αφρόλουτρου είναι ο καθαρισμός του σώματος, χωρίς την απομάκρυνση του φυσικού λίπους του σώματο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943600" y="5335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762120" y="762120"/>
            <a:ext cx="769608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υστατικ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ασενεργές ενώσεις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(Δωδέκυλο- σουλφονικό νάτριο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LS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φριστικοί παράγοντε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(Παράγωγα της Διαιθανολαμίνης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A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ποσκληρυντικές ενώσει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ιθυλενοδιαμινοτετραοξικό νάτριο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DTA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4" name=""/>
          <p:cNvGraphicFramePr/>
          <p:nvPr/>
        </p:nvGraphicFramePr>
        <p:xfrm>
          <a:off x="3048120" y="4379760"/>
          <a:ext cx="3311280" cy="22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4379760"/>
                    <a:ext cx="3311280" cy="22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6" name=""/>
          <p:cNvSpPr/>
          <p:nvPr/>
        </p:nvSpPr>
        <p:spPr>
          <a:xfrm>
            <a:off x="5943600" y="5335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867640" y="182520"/>
            <a:ext cx="315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Καθαριότητα του σώματο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8" name=""/>
          <p:cNvGraphicFramePr/>
          <p:nvPr/>
        </p:nvGraphicFramePr>
        <p:xfrm>
          <a:off x="2992320" y="4038480"/>
          <a:ext cx="2951280" cy="13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2320" y="4038480"/>
                    <a:ext cx="2951280" cy="13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0" name=""/>
          <p:cNvSpPr/>
          <p:nvPr/>
        </p:nvSpPr>
        <p:spPr>
          <a:xfrm>
            <a:off x="228600" y="1527120"/>
            <a:ext cx="8381880" cy="23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νυδατικοί παράγοντες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camidopropyl Betaine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Άρωμα και χρωστικέ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υντηρητικ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Βενζοϊκό νάτρι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στέρες του π-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υδροξυβενζοϊκού οξέος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be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943600" y="5335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867640" y="182520"/>
            <a:ext cx="315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Καθαριότητα του σώματο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809880" y="571500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657600" y="57913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Βενζοϊκό νάτρι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1066680" y="907920"/>
            <a:ext cx="7086600" cy="76860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/>
          </p:nvPr>
        </p:nvSpPr>
        <p:spPr>
          <a:xfrm>
            <a:off x="685440" y="981000"/>
            <a:ext cx="755820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7" name=""/>
          <p:cNvGraphicFramePr/>
          <p:nvPr/>
        </p:nvGraphicFramePr>
        <p:xfrm>
          <a:off x="1752480" y="1901880"/>
          <a:ext cx="5715000" cy="16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01880"/>
                    <a:ext cx="5715000" cy="16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9" name=""/>
          <p:cNvSpPr/>
          <p:nvPr/>
        </p:nvSpPr>
        <p:spPr>
          <a:xfrm>
            <a:off x="838080" y="990720"/>
            <a:ext cx="7558200" cy="51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386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0000"/>
                </a:solidFill>
                <a:latin typeface="Arial"/>
              </a:rPr>
              <a:t>Δωδεκυλο- σουλφονικό νάτριο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(SL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386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386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386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386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386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386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386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Χρησιμοποιείται  και ως αφριστικός παράγοντα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386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Έχει πολύ χαμηλό κόστο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386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ίναι βιοαποικοδομήσιμ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386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386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943600" y="5335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867640" y="182520"/>
            <a:ext cx="315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Καθαριότητα του σώματο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2" name=""/>
          <p:cNvGraphicFramePr/>
          <p:nvPr/>
        </p:nvGraphicFramePr>
        <p:xfrm>
          <a:off x="3059280" y="3716280"/>
          <a:ext cx="2736720" cy="14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3716280"/>
                    <a:ext cx="2736720" cy="14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Μειονεκτήματα του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8469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Οι επιστήμονες εμφανίζουν διάφορες απόψεις σχετικά με την τοξικότητά το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εριέχει ως πρόσμειξη την Ν- νιτροδο- διαιθανολαμίνη (νιτροζαμίνη) που είναι πιθανή καρκινογόνος ένωσ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943600" y="5335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867640" y="182520"/>
            <a:ext cx="315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Καθαριότητα του σώματο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8" name="" descr=""/>
          <p:cNvPicPr/>
          <p:nvPr/>
        </p:nvPicPr>
        <p:blipFill>
          <a:blip r:embed="rId1"/>
          <a:stretch/>
        </p:blipFill>
        <p:spPr>
          <a:xfrm>
            <a:off x="6781680" y="4191120"/>
            <a:ext cx="2033640" cy="2160360"/>
          </a:xfrm>
          <a:prstGeom prst="rect">
            <a:avLst/>
          </a:prstGeom>
          <a:ln w="0">
            <a:noFill/>
          </a:ln>
        </p:spPr>
      </p:pic>
      <p:sp>
        <p:nvSpPr>
          <p:cNvPr id="739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ίναι ερεθιστική ένωσ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ισέρχεται μέσα στα μάτια, στο συκώτι, στην καρδιά και στον εγκέφαλ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ροκαλεί καταράκτη στα μάτι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ροκαλεί τριχόπτωσ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πογυμνώνει το σώμα από τα φυσικά του λιπίδι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943600" y="5335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867640" y="182520"/>
            <a:ext cx="315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Καθαριότητα του σώματο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1066680" y="914400"/>
            <a:ext cx="7239240" cy="72072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3" name=""/>
          <p:cNvGraphicFramePr/>
          <p:nvPr/>
        </p:nvGraphicFramePr>
        <p:xfrm>
          <a:off x="2556000" y="1916280"/>
          <a:ext cx="3959280" cy="77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1916280"/>
                    <a:ext cx="3959280" cy="77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5" name=""/>
          <p:cNvSpPr/>
          <p:nvPr/>
        </p:nvSpPr>
        <p:spPr>
          <a:xfrm>
            <a:off x="2771640" y="3068640"/>
            <a:ext cx="374364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/>
          </p:nvPr>
        </p:nvSpPr>
        <p:spPr>
          <a:xfrm>
            <a:off x="610920" y="980640"/>
            <a:ext cx="80629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0000"/>
                </a:solidFill>
                <a:latin typeface="Arial"/>
              </a:rPr>
              <a:t>Παράγωγα της Διαιθανολαμίνης</a:t>
            </a:r>
            <a:r>
              <a:rPr b="1" lang="el-GR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EA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camide- D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A- Cetyl Phosph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A Oleth- 3Phosphate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             (1- 5% περιεκτικότητα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ramide D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ristamide D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eamide D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943600" y="5335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867640" y="182520"/>
            <a:ext cx="315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Καθαριότητα του σώματο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Μειονεκτήματ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Οι έρευνες σε ποντίκια δείχνουν ότι μπορεί να είναι ιδιαίτερα τοξική για την πλειοψηφία των οργάνων του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Προκαλούνται αναιμίες, εκφυλισμός των νεφρών, επιρροή του εγκεφάλου και του νωτιαίου μυελο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Πρόωρος θάνατο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943600" y="5335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867640" y="182520"/>
            <a:ext cx="315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Καθαριότητα του σώματο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1295280" y="685800"/>
            <a:ext cx="7696440" cy="121932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665000" y="914400"/>
            <a:ext cx="7247520" cy="15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0000"/>
                </a:solidFill>
                <a:latin typeface="Arial"/>
              </a:rPr>
              <a:t>Εστέρες του π- υδροξυβενζοϊκού οξέο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raben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11280" y="3645000"/>
            <a:ext cx="79912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α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bens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με την κατάποση μπορεί να προκαλέσουν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ρεθισμό της αναπνευστικής οδο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Βήχ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Δυσκολίες στην αναπνο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ελευταία εξετάζεται η αλληλεπίδρασή τους με το δέρμ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943600" y="5335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867640" y="182520"/>
            <a:ext cx="315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Καθαριότητα του σώματο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8" name=""/>
          <p:cNvGraphicFramePr/>
          <p:nvPr/>
        </p:nvGraphicFramePr>
        <p:xfrm>
          <a:off x="4800600" y="1874880"/>
          <a:ext cx="3657600" cy="161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874880"/>
                    <a:ext cx="3657600" cy="16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0" name=""/>
          <p:cNvGraphicFramePr/>
          <p:nvPr/>
        </p:nvGraphicFramePr>
        <p:xfrm>
          <a:off x="1219320" y="1905120"/>
          <a:ext cx="2901960" cy="161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1905120"/>
                    <a:ext cx="2901960" cy="16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/>
          </p:nvPr>
        </p:nvSpPr>
        <p:spPr>
          <a:xfrm>
            <a:off x="539640" y="1523520"/>
            <a:ext cx="5616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3" name=""/>
          <p:cNvGraphicFramePr/>
          <p:nvPr/>
        </p:nvGraphicFramePr>
        <p:xfrm>
          <a:off x="2195640" y="3213000"/>
          <a:ext cx="2089080" cy="20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3213000"/>
                    <a:ext cx="208908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65" name="past" descr=""/>
          <p:cNvPicPr/>
          <p:nvPr/>
        </p:nvPicPr>
        <p:blipFill>
          <a:blip r:embed="rId3"/>
          <a:stretch/>
        </p:blipFill>
        <p:spPr>
          <a:xfrm>
            <a:off x="5257800" y="3352680"/>
            <a:ext cx="2936880" cy="2068560"/>
          </a:xfrm>
          <a:prstGeom prst="rect">
            <a:avLst/>
          </a:prstGeom>
          <a:ln w="0">
            <a:noFill/>
          </a:ln>
        </p:spPr>
      </p:pic>
      <p:sp>
        <p:nvSpPr>
          <p:cNvPr id="766" name="PlaceHolder 2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Οδοντόκρεμε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92280" y="1517760"/>
            <a:ext cx="561636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υστατικ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Φθόριο (μονοφθοροφωσφορικό νάτριο ή φθοριούχο νάτριο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Λευκαντικά (Η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Ο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943600" y="5335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867640" y="182520"/>
            <a:ext cx="315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Καθαριότητα του σώματο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195640" y="549360"/>
            <a:ext cx="5759280" cy="792000"/>
          </a:xfrm>
          <a:prstGeom prst="rect">
            <a:avLst/>
          </a:prstGeom>
          <a:solidFill>
            <a:srgbClr val="0033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35280" y="4147920"/>
            <a:ext cx="208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Είδη ρύπων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τερεο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Υγρο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95640" y="647640"/>
            <a:ext cx="57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Απορρύπανση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 rot="10800000">
            <a:off x="754200" y="2132640"/>
            <a:ext cx="7702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Με τον όρο απορρύπανση εννοείται η διαδικασία απομάκρυνσης από ένα υπόστρωμα κάθε ανεπιθύμητου υλικού, δηλαδή κάθε υλικού που βρίσκεται εκτός του χώρου και του προορισμού του και καλείται ρύπο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rouxo" descr=""/>
          <p:cNvPicPr/>
          <p:nvPr/>
        </p:nvPicPr>
        <p:blipFill>
          <a:blip r:embed="rId1"/>
          <a:stretch/>
        </p:blipFill>
        <p:spPr>
          <a:xfrm>
            <a:off x="5029200" y="4114800"/>
            <a:ext cx="2514600" cy="1863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1143000" y="4952880"/>
            <a:ext cx="5257800" cy="53352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1" name=""/>
          <p:cNvGraphicFramePr/>
          <p:nvPr/>
        </p:nvGraphicFramePr>
        <p:xfrm>
          <a:off x="1692360" y="2133720"/>
          <a:ext cx="2303280" cy="18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133720"/>
                    <a:ext cx="2303280" cy="18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3" name=""/>
          <p:cNvGraphicFramePr/>
          <p:nvPr/>
        </p:nvGraphicFramePr>
        <p:xfrm>
          <a:off x="4716360" y="2349360"/>
          <a:ext cx="2448000" cy="145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2349360"/>
                    <a:ext cx="2448000" cy="14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5" name="PlaceHolder 1"/>
          <p:cNvSpPr>
            <a:spLocks noGrp="1"/>
          </p:cNvSpPr>
          <p:nvPr>
            <p:ph/>
          </p:nvPr>
        </p:nvSpPr>
        <p:spPr>
          <a:xfrm>
            <a:off x="1142640" y="1125360"/>
            <a:ext cx="7543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Λειαντικά τα οποία απομακρύνουν τους λεκέδες (Φωσφορικό ασβέστιο, Ανθρακικό ασβέστιο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ασενεργές ενώσεις, οι οποίες προκαλούν αφρισμ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(Δωδεκυλο- σουλφονικό νάτριο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943600" y="5335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867640" y="182520"/>
            <a:ext cx="315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Καθαριότητα του σώματο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5410080" y="1600200"/>
            <a:ext cx="1371600" cy="45720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/>
          </p:nvPr>
        </p:nvSpPr>
        <p:spPr>
          <a:xfrm>
            <a:off x="837720" y="119700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αχυρευστοματοποιητές (καραγεννάνες, ξανθάνη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υντηρητικά  (Βενζοϊκό νάτριο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bens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Γλυκαντικές ουσίες (Σακχαρίνη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νώσεις που δίνουν χρώμα (Διοξείδιο του Τιτανίου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943600" y="5335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867640" y="182520"/>
            <a:ext cx="315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Καθαριότητα του σώματο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2" name=""/>
          <p:cNvGraphicFramePr/>
          <p:nvPr/>
        </p:nvGraphicFramePr>
        <p:xfrm>
          <a:off x="3152880" y="2666880"/>
          <a:ext cx="2152440" cy="219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52880" y="2666880"/>
                    <a:ext cx="2152440" cy="219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>
            <a:hlinkClick r:id="rId1" action="ppaction://hlinksldjump"/>
          </p:cNvPr>
          <p:cNvSpPr/>
          <p:nvPr/>
        </p:nvSpPr>
        <p:spPr>
          <a:xfrm>
            <a:off x="7696080" y="5943600"/>
            <a:ext cx="990720" cy="533520"/>
          </a:xfrm>
          <a:prstGeom prst="leftArrow">
            <a:avLst>
              <a:gd name="adj1" fmla="val 50000"/>
              <a:gd name="adj2" fmla="val 46424"/>
            </a:avLst>
          </a:prstGeom>
          <a:solidFill>
            <a:srgbClr val="008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981080" y="1143000"/>
            <a:ext cx="59025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Πράσινη Λύση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πό όλες αυτές τις ενώσεις οι πιο επικίνδυνες είναι το δωδεκυλο- σουλφονικό νάτριο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S)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, τα παράγωγα της διαιθανολαμίνης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A)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και τα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b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Διοίκηση Τροφίμων και Φαρμάκων της Αμερικής (7/4/98) απαιτεί οι οδοντόκρεμες φθορίου να φέρουν μία ετικέτα που θα προειδοποιεί τους καταναλωτές για το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943600" y="5335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867640" y="182520"/>
            <a:ext cx="315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Καθαριότητα του σώματο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/>
          <p:nvPr/>
        </p:nvSpPr>
        <p:spPr>
          <a:xfrm>
            <a:off x="2411280" y="404640"/>
            <a:ext cx="4969080" cy="792360"/>
          </a:xfrm>
          <a:prstGeom prst="rect">
            <a:avLst/>
          </a:prstGeom>
          <a:solidFill>
            <a:srgbClr val="0033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50920" y="314460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116000" y="475560"/>
            <a:ext cx="7667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Υλικά συσκευασία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1"/>
          <a:stretch/>
        </p:blipFill>
        <p:spPr>
          <a:xfrm>
            <a:off x="3780000" y="3500280"/>
            <a:ext cx="1726920" cy="1195560"/>
          </a:xfrm>
          <a:prstGeom prst="rect">
            <a:avLst/>
          </a:prstGeom>
          <a:ln w="0">
            <a:noFill/>
          </a:ln>
        </p:spPr>
      </p:pic>
      <p:pic>
        <p:nvPicPr>
          <p:cNvPr id="793" name="" descr=""/>
          <p:cNvPicPr/>
          <p:nvPr/>
        </p:nvPicPr>
        <p:blipFill>
          <a:blip r:embed="rId2"/>
          <a:stretch/>
        </p:blipFill>
        <p:spPr>
          <a:xfrm>
            <a:off x="6227640" y="5013360"/>
            <a:ext cx="1871640" cy="1179360"/>
          </a:xfrm>
          <a:prstGeom prst="rect">
            <a:avLst/>
          </a:prstGeom>
          <a:ln w="0">
            <a:noFill/>
          </a:ln>
        </p:spPr>
      </p:pic>
      <p:pic>
        <p:nvPicPr>
          <p:cNvPr id="794" name="skip" descr=""/>
          <p:cNvPicPr/>
          <p:nvPr/>
        </p:nvPicPr>
        <p:blipFill>
          <a:blip r:embed="rId3"/>
          <a:stretch/>
        </p:blipFill>
        <p:spPr>
          <a:xfrm>
            <a:off x="6095880" y="2286000"/>
            <a:ext cx="1428840" cy="1839960"/>
          </a:xfrm>
          <a:prstGeom prst="rect">
            <a:avLst/>
          </a:prstGeom>
          <a:ln w="0">
            <a:noFill/>
          </a:ln>
        </p:spPr>
      </p:pic>
      <p:sp>
        <p:nvSpPr>
          <p:cNvPr id="795" name=""/>
          <p:cNvSpPr/>
          <p:nvPr/>
        </p:nvSpPr>
        <p:spPr>
          <a:xfrm>
            <a:off x="971640" y="1700280"/>
            <a:ext cx="756108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Τα υλικά που χρησιμοποιούνται για τη συσκευασία των καθαριστικών είναι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Χαρτ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Πλαστικ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Γυαλ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Χαρτί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660000" y="189000"/>
            <a:ext cx="221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Υλικά συσκευασία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659640" y="54936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νακυκλωμένο χαρτόν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νακυκλωμένο χαρτόνι λαμιναρισμένο για μεγαλύτερη αντοχ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νακυκλωμένο χαρτόνι με ενίσχυση (κλάπα) στο εσωτερικ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ιδικό χαρτόνι πολυαιθυλενίου, για προστασία των ευαίσθητων προϊόντων από ειδικές συνθήκες περιβάλλοντος (υγρασία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6631560" y="18576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Υλικά συσκευασία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659640" y="54936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Πλαστικά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0" y="2390040"/>
            <a:ext cx="8821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Φιάλες υψηλής πυκνότητας πολυαιθυλενίο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Φωτοαποικοδομήσιμα ή βιοαποικοδομήσιμα πλαστικά που βασίζονται σε πρωτεΐνες, στο άμυλο, στην κυτταρίνη ή το γαλακτικό οξ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/>
          <p:nvPr/>
        </p:nvSpPr>
        <p:spPr>
          <a:xfrm>
            <a:off x="6659640" y="54936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Γυαλί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Ανακυκλωμένο γυαλ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Γυαλί κατά 90% προερχόμενο από ανακύκλωση έχει εξοικονόμηση ενέργειας κατά 20%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Μειονέκτημα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Ο διαχωρισμός τους, ώστε να ικανοποιούνται οι προδιαγραφές όσον αφορά τα χρώματα τους και τα έξοδα μεταφορά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631560" y="18576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Υλικά συσκευασία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>
            <a:off x="6659640" y="54936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950760" y="760680"/>
            <a:ext cx="7812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Κριτήρια αξιολόγησης μιας συσκευασίας από οικολογική άποψ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914400" y="1877400"/>
            <a:ext cx="7543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Κανένα υλικό συσκευασίας δεν μπορεί να διεκδικήσει την περιβαλλοντική υπεροχή, γιατί η περιβαλλοντική επίδραση εξαρτάται από πολλά κριτήρι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Επειδή μια συσκευασία δεν μπορεί να υπάρχει χωρίς ένα προϊόν, κάθε αξιολόγηση του δοχείου-περιέκτη θα πρέπει να λαμβάνει υπ’ όψη όχι μόνο τη συσκευασία, αλλά και το προϊό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631560" y="18576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Υλικά συσκευασία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/>
          <p:nvPr/>
        </p:nvSpPr>
        <p:spPr>
          <a:xfrm>
            <a:off x="0" y="16938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4572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659640" y="54936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762120" y="1052640"/>
            <a:ext cx="813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Τα βασικότερα κριτήρια αξιολόγησης μιας συσκευασίας από οικολογική άποψη είναι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33520" y="2035440"/>
            <a:ext cx="84312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Κατανάλωση πρώτων υλών (διατήρηση φυσικών πόρω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Κατανάλωση ενέργεια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Συμμετοχή στον όγκο των οικιακών απορριμμάτω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Διάθεση απορριμμάτων (υγειονομική ταφή, καύση, ανακύκλωση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631560" y="18576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Υλικά συσκευασία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"/>
          <p:cNvSpPr/>
          <p:nvPr/>
        </p:nvSpPr>
        <p:spPr>
          <a:xfrm>
            <a:off x="6659640" y="54936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609480" y="1139040"/>
            <a:ext cx="805968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Ο σκοπός και τα προβλήματα της αποικοδόμησης υλικών συσκευασία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Έ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να υλικό  συσκευασίας σαν   διάσπαρτο σκουπίδι πρέπει να εξαφανίζεται από το περιβάλλον σε σύντομο χρονικό διάστημ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ν αυτό θάβεται στις χωματερές, σαν στερεό απόβλητο, τότε θα πρέπει και πάλι να εξαφανίζεται  όσο  το  δυνατό γρηγορότερ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631560" y="18576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Υλικά συσκευασία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2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48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πομάκρυνση του ρύπου από το υπόστρωμ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ιώρηση του ρύπου στο λουτρό και παρεμπόδιση της επαναπροσρόφησής του στο υπόστρωμ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47640" y="782640"/>
            <a:ext cx="68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Διαδικασία απορρύπανση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124080" y="4267080"/>
            <a:ext cx="2857680" cy="1714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"/>
          <p:cNvSpPr/>
          <p:nvPr/>
        </p:nvSpPr>
        <p:spPr>
          <a:xfrm>
            <a:off x="2895480" y="297180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Ανακύκλωσ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"/>
          <p:cNvSpPr/>
          <p:nvPr/>
        </p:nvSpPr>
        <p:spPr>
          <a:xfrm>
            <a:off x="6659640" y="54936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3160" y="1915920"/>
            <a:ext cx="792468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Εξοικονόμηση πρώτων υλών και ενέργειας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νδεικτικά 1 τόνος ανακυκλωμένου χαρτιού εξοικονομεί 17 δέντρα, 3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³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νερ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και  41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wh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ηλεκτρική ενέργεια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631560" y="18576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Υλικά συσκευασία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/>
          <p:nvPr/>
        </p:nvSpPr>
        <p:spPr>
          <a:xfrm>
            <a:off x="617400" y="1952280"/>
            <a:ext cx="79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χαρτοβιομηχανία στη Δυτ. Ευρώπη χρησιμοποιεί 16,5 εκατ. τόνους χρησιμοποιημένου ανακυκλωμένου χαρτιού σε μια παραγωγή 49 εκατ. τόνων χαρτιού, δηλαδή το  33,7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Οι 22 πλουσιότερες χώρες, που ο πληθυσμός τους αντιπροσωπεύει το 17% του συνολικού πληθυσμού της γης, καταναλώνουν το 79% της παγκόσμιας παραγωγής ανακυκλωμένου χαρτιού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-4481640" y="512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6659640" y="54936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631560" y="18576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Υλικά συσκευασία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8" name=""/>
          <p:cNvGraphicFramePr/>
          <p:nvPr/>
        </p:nvGraphicFramePr>
        <p:xfrm>
          <a:off x="324000" y="1484280"/>
          <a:ext cx="8569080" cy="432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484280"/>
                    <a:ext cx="8569080" cy="43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0" name=""/>
          <p:cNvSpPr/>
          <p:nvPr/>
        </p:nvSpPr>
        <p:spPr>
          <a:xfrm>
            <a:off x="1114560" y="6022800"/>
            <a:ext cx="144360" cy="142920"/>
          </a:xfrm>
          <a:prstGeom prst="diamond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114560" y="6308640"/>
            <a:ext cx="144360" cy="142920"/>
          </a:xfrm>
          <a:prstGeom prst="diamond">
            <a:avLst/>
          </a:prstGeom>
          <a:solidFill>
            <a:srgbClr val="00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659640" y="54936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752480" y="685440"/>
            <a:ext cx="5997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Πορεία συνολικής παραγωγής χαρτιού και ανακυκλωμένου χαρτιο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187280" y="5911560"/>
            <a:ext cx="7499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Συνολική Παραγωγή Χαρτιού (σε εκατ. τόνους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Παραγωγή Ανακυκλωμένου Χαρτιού (σε εκατ. τόνους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631560" y="18576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Υλικά συσκευασία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6659640" y="54936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599840" y="620280"/>
            <a:ext cx="7148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Απαντήσεις καταναλωτών στο ερώτημα  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« Πόσο συχνά επηρεάζει την αγορά σας το αν το υλικό συσκευασίας του προϊόντος που αγοράζετε είναι ανακυκλώσιμο;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8" name=""/>
          <p:cNvGraphicFramePr/>
          <p:nvPr/>
        </p:nvGraphicFramePr>
        <p:xfrm>
          <a:off x="601560" y="2523960"/>
          <a:ext cx="8002800" cy="3497400"/>
        </p:xfrm>
        <a:graphic>
          <a:graphicData uri="http://schemas.openxmlformats.org/drawingml/2006/table">
            <a:tbl>
              <a:tblPr/>
              <a:tblGrid>
                <a:gridCol w="2293920"/>
                <a:gridCol w="1710000"/>
                <a:gridCol w="2000160"/>
                <a:gridCol w="1998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Συχν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Μερικές φορέ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,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Σπανίω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,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Ποτ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,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9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Πηγή: Σημειώματα Συσκευασίας, Τεύχος 4, Οκτ. 1998, ΑΡΓΩ ΑΕΒ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39" name=""/>
          <p:cNvSpPr/>
          <p:nvPr/>
        </p:nvSpPr>
        <p:spPr>
          <a:xfrm>
            <a:off x="6631560" y="18576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Υλικά συσκευασία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"/>
          <p:cNvSpPr/>
          <p:nvPr/>
        </p:nvSpPr>
        <p:spPr>
          <a:xfrm>
            <a:off x="6659640" y="54936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676520" y="79596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Είσαστε διατεθειμένοι να χωρίζετε τα διάφορα υλικά συσκευασίας κατά κατηγορίες πριν τη συλλογή τους;»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Οι απαντήσεις εξαρτήθηκαν από την ηλικία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2" name=""/>
          <p:cNvGraphicFramePr/>
          <p:nvPr/>
        </p:nvGraphicFramePr>
        <p:xfrm>
          <a:off x="1547640" y="2565360"/>
          <a:ext cx="6192720" cy="3546360"/>
        </p:xfrm>
        <a:graphic>
          <a:graphicData uri="http://schemas.openxmlformats.org/drawingml/2006/table">
            <a:tbl>
              <a:tblPr/>
              <a:tblGrid>
                <a:gridCol w="3097080"/>
                <a:gridCol w="3095640"/>
              </a:tblGrid>
              <a:tr h="1155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Πάνω από 65 χρονώ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,9%  ΝΑ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6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  –   64 χρονώ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,4%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ΝΑ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–    44 χρονώ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,4%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ΝΑ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Κάτω των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25 χρονώ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,7%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ΝΑ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3" name=""/>
          <p:cNvSpPr/>
          <p:nvPr/>
        </p:nvSpPr>
        <p:spPr>
          <a:xfrm>
            <a:off x="6631560" y="18576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Υλικά συσκευασία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"/>
          <p:cNvSpPr/>
          <p:nvPr/>
        </p:nvSpPr>
        <p:spPr>
          <a:xfrm>
            <a:off x="6659640" y="54936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268360" y="1125360"/>
            <a:ext cx="468000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Συμπέρασμα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1371240" y="2133720"/>
            <a:ext cx="65530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Οι καταναλωτές θέλουν συσκευασίε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εύχρηστε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ασφαλεί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631560" y="18576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Υλικά συσκευασία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/>
          </p:nvPr>
        </p:nvSpPr>
        <p:spPr>
          <a:xfrm>
            <a:off x="-360" y="2852280"/>
            <a:ext cx="8101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9" name="" descr=""/>
          <p:cNvPicPr/>
          <p:nvPr/>
        </p:nvPicPr>
        <p:blipFill>
          <a:blip r:embed="rId1"/>
          <a:stretch/>
        </p:blipFill>
        <p:spPr>
          <a:xfrm>
            <a:off x="6553080" y="2852640"/>
            <a:ext cx="1944720" cy="1719360"/>
          </a:xfrm>
          <a:prstGeom prst="rect">
            <a:avLst/>
          </a:prstGeom>
          <a:ln w="0">
            <a:noFill/>
          </a:ln>
        </p:spPr>
      </p:pic>
      <p:sp>
        <p:nvSpPr>
          <p:cNvPr id="850" name=""/>
          <p:cNvSpPr/>
          <p:nvPr/>
        </p:nvSpPr>
        <p:spPr>
          <a:xfrm>
            <a:off x="1143000" y="2492280"/>
            <a:ext cx="5156280" cy="27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Σήμερα όλο και περισσότερες βιομηχανίες παίρνουν υπόψη τους την απαίτηση των καταναλωτών όχι μόνο να μη ρυπαίνουν αλλά και να παράγουν φιλικά προς το περιβάλλον προϊόντ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6659640" y="54936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1332000" y="836640"/>
            <a:ext cx="6877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Οι βιομηχανίες «πρασινίζουν» υπό την πίεση των οικολόγω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6631560" y="18576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Υλικά συσκευασία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4" name="p_001" descr=""/>
          <p:cNvPicPr/>
          <p:nvPr/>
        </p:nvPicPr>
        <p:blipFill>
          <a:blip r:embed="rId1">
            <a:lum contrast="-2000"/>
          </a:blip>
          <a:stretch/>
        </p:blipFill>
        <p:spPr>
          <a:xfrm>
            <a:off x="3429000" y="3581280"/>
            <a:ext cx="2016000" cy="2159280"/>
          </a:xfrm>
          <a:prstGeom prst="rect">
            <a:avLst/>
          </a:prstGeom>
          <a:ln w="0">
            <a:noFill/>
          </a:ln>
        </p:spPr>
      </p:pic>
      <p:sp>
        <p:nvSpPr>
          <p:cNvPr id="855" name=""/>
          <p:cNvSpPr/>
          <p:nvPr/>
        </p:nvSpPr>
        <p:spPr>
          <a:xfrm>
            <a:off x="1143000" y="182700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Γερμανία έχει λύσει το πρόβλημα της σύγχυσης των καταναλωτών. Από το 1997 έχει καθιερώσει το σήμα </a:t>
            </a:r>
            <a:r>
              <a:rPr b="0" lang="el-GR" sz="2400" spc="-1" strike="noStrike">
                <a:solidFill>
                  <a:srgbClr val="0033cc"/>
                </a:solidFill>
                <a:latin typeface="Arial"/>
              </a:rPr>
              <a:t>«Μπλε Άγγελος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659640" y="54936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631560" y="18576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Υλικά συσκευασία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684360" y="1802880"/>
            <a:ext cx="784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Ε.Ε. βρίσκεται στη διαδικασία ανάπτυξης μιας νέας πολιτικής για τα χημικά, αφού η τρέχουσα νομοθεσία μαστίζεται από ένα μεγάλο αριθμό σοβαρών μειονεκτημάτων και ελλείψεων.  Απαντώντας στην αναθεώρηση, που γίνεται για τα χημικά, το Ευρωπαϊκό Περιβαλλοντικό Γραφείο και η Ευρωπαϊκή Οργάνωση Καταναλωτών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UC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) συμφώνησαν στις ακόλουθες απαιτήσεις για τη μελλοντική πολιτική της Ε.Ε. για τα χημικά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6659640" y="54936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Πρόταση της Ευρωπαϊκής Ένωσ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631560" y="18576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Υλικά συσκευασία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18920" y="691920"/>
            <a:ext cx="6048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Απομάκρυνση στερεού ρύπου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2133360"/>
            <a:ext cx="547200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Διαβροχή του υποστρώματος και των σωματιδίων του ρύπου από το λουτρ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ροσρόφηση του τασενεργού και των άλλων συστατικών του λουτρού στις διεπιφάνειες υπόστρωμα- λουτρό και ρύπος- λουτρ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5516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0360" y="54936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91320" y="189000"/>
            <a:ext cx="32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Διαδικασία απορρύπανση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095880" y="2362320"/>
            <a:ext cx="2819520" cy="2819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1042920" y="1557360"/>
            <a:ext cx="7488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ο δικαίωμα γνώσης, που περιλαμβάνει και τη γνώση τι χημικά υπάρχουν στα προϊόντ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ακτή προθεσμία, μέχρι την οποία πρέπει να έχει εκτιμηθεί ξεχωριστά η ασφάλεια όλων των χημικών, στην αγορ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πόσυρση σταθερών ή βιοσυσσωρευμένων χημικώ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ντικατάσταση των λιγότερο ασφαλών χημικών με ασφαλέστερα εναλλακτικ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Δέσμευση ότι θα σταματήσουν όλες οι εκπομπές επικίνδυνων ουσιών στο περιβάλλον, μέχρι το 20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659640" y="54936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6631560" y="18576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Υλικά συσκευασία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"/>
          <p:cNvSpPr/>
          <p:nvPr/>
        </p:nvSpPr>
        <p:spPr>
          <a:xfrm>
            <a:off x="6659640" y="54936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7" name="recycl" descr=""/>
          <p:cNvPicPr/>
          <p:nvPr/>
        </p:nvPicPr>
        <p:blipFill>
          <a:blip r:embed="rId1"/>
          <a:stretch/>
        </p:blipFill>
        <p:spPr>
          <a:xfrm>
            <a:off x="6095880" y="4343400"/>
            <a:ext cx="2781360" cy="2136600"/>
          </a:xfrm>
          <a:prstGeom prst="rect">
            <a:avLst/>
          </a:prstGeom>
          <a:ln w="0">
            <a:noFill/>
          </a:ln>
        </p:spPr>
      </p:pic>
      <p:sp>
        <p:nvSpPr>
          <p:cNvPr id="868" name=""/>
          <p:cNvSpPr/>
          <p:nvPr/>
        </p:nvSpPr>
        <p:spPr>
          <a:xfrm>
            <a:off x="684360" y="1172160"/>
            <a:ext cx="731664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γοράζοντας ανταλλακτικά (π.χ. σακούλες) δεν μειώνουμε μόνο τη σπατάλη στη συσκευασία, κάνουμε συγχρόνως και οικονομίε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ίναι προτιμότερο να επιλέγουμε συσκευασίες που μπορούν να επιστραφούν και να επαναχρησιμοποιηθούν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ν η συσκευασία ενός προϊόντος δεν επαναχρησιμοποιείται, ας φροντίσουμε    τουλάχιστον να πάει για ανακύκλωσ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631560" y="18576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Υλικά συσκευασία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"/>
          <p:cNvSpPr/>
          <p:nvPr/>
        </p:nvSpPr>
        <p:spPr>
          <a:xfrm>
            <a:off x="6659640" y="54936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826920" y="1484280"/>
            <a:ext cx="763452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ς προτιμούμε ανακυκλωμένες ή ανακυκλώσιμες συσκευασίες, όπου αυτές προσφέρονται και χάρτινες ή γυάλινες από τις πλαστικές ή τις μεικτέ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ροϊόντα σε απλό σελοφάν (οδοντόκρεμες χωρίς κουτί) είναι μερικά από τα παραδείγματ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υμπυκνωμένα προϊόντα. Με την ίδια συσκευασία αγοράζουμε μεγαλύτερη ποσότητα και συνήθως φθηνότερ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631560" y="18576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Υλικά συσκευασία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"/>
          <p:cNvSpPr/>
          <p:nvPr/>
        </p:nvSpPr>
        <p:spPr>
          <a:xfrm>
            <a:off x="0" y="34898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2203920" y="2925720"/>
            <a:ext cx="557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Arial"/>
              </a:rPr>
              <a:t>Πράσινη Φορολογί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3059280" y="620640"/>
            <a:ext cx="3241440" cy="863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95280" y="1752480"/>
            <a:ext cx="835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</a:t>
            </a:r>
            <a:r>
              <a:rPr b="0" lang="el-GR" sz="2400" spc="-1" strike="noStrike">
                <a:solidFill>
                  <a:srgbClr val="003300"/>
                </a:solidFill>
                <a:latin typeface="Arial"/>
              </a:rPr>
              <a:t>Πράσινη Χημεία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είναι μεν Κεντρική Επιστήμη η πραγματοποίηση όμως του επιθυμητού αποτελέσματος απαιτεί πρωτίστως τη συνεργασία μιας πολυεπιστημονικής ομάδας, η οποία θα στηριχτεί από την Πολιτεία, τη Βιομηχανία και την Κοινωνία γενικότερ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7" name="3" descr=""/>
          <p:cNvPicPr/>
          <p:nvPr/>
        </p:nvPicPr>
        <p:blipFill>
          <a:blip r:embed="rId1"/>
          <a:stretch/>
        </p:blipFill>
        <p:spPr>
          <a:xfrm>
            <a:off x="457200" y="3838680"/>
            <a:ext cx="8534520" cy="2570040"/>
          </a:xfrm>
          <a:prstGeom prst="rect">
            <a:avLst/>
          </a:prstGeom>
          <a:ln w="0">
            <a:noFill/>
          </a:ln>
        </p:spPr>
      </p:pic>
      <p:sp>
        <p:nvSpPr>
          <p:cNvPr id="878" name=""/>
          <p:cNvSpPr/>
          <p:nvPr/>
        </p:nvSpPr>
        <p:spPr>
          <a:xfrm>
            <a:off x="3132000" y="765000"/>
            <a:ext cx="3095640" cy="5508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Επίλογο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soap-pum-lg" descr=""/>
          <p:cNvPicPr/>
          <p:nvPr/>
        </p:nvPicPr>
        <p:blipFill>
          <a:blip r:embed="rId1"/>
          <a:stretch/>
        </p:blipFill>
        <p:spPr>
          <a:xfrm>
            <a:off x="1042920" y="1521000"/>
            <a:ext cx="895320" cy="971280"/>
          </a:xfrm>
          <a:prstGeom prst="rect">
            <a:avLst/>
          </a:prstGeom>
          <a:ln w="0">
            <a:noFill/>
          </a:ln>
        </p:spPr>
      </p:pic>
      <p:sp>
        <p:nvSpPr>
          <p:cNvPr id="880" name=""/>
          <p:cNvSpPr/>
          <p:nvPr/>
        </p:nvSpPr>
        <p:spPr>
          <a:xfrm>
            <a:off x="-3662280" y="53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2340000" y="621720"/>
            <a:ext cx="597708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ράσινο ή άσπρο σαπούνι σε νιφάδες. Το τριμμένο σαπούνι ελιάς, διαλυμένο σε ζεστό νερό, χρησιμοποιείται για γενικό καθαρισμό, για πλύσιμο πιάτων, για σφουγγάρισμα δαπέδων και βέβαια για πλύσιμο ρούχων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2" name="vinegar" descr=""/>
          <p:cNvPicPr/>
          <p:nvPr/>
        </p:nvPicPr>
        <p:blipFill>
          <a:blip r:embed="rId2"/>
          <a:stretch/>
        </p:blipFill>
        <p:spPr>
          <a:xfrm>
            <a:off x="1111320" y="2687760"/>
            <a:ext cx="723960" cy="1028520"/>
          </a:xfrm>
          <a:prstGeom prst="rect">
            <a:avLst/>
          </a:prstGeom>
          <a:ln w="0">
            <a:noFill/>
          </a:ln>
        </p:spPr>
      </p:pic>
      <p:sp>
        <p:nvSpPr>
          <p:cNvPr id="883" name=""/>
          <p:cNvSpPr/>
          <p:nvPr/>
        </p:nvSpPr>
        <p:spPr>
          <a:xfrm>
            <a:off x="2340000" y="2489040"/>
            <a:ext cx="6121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Γενικό καθαριστικό. Μισό φλυτζάνι ξύδι και ¼  φλυτζανιού σόδα σε δύο λίτρα νερό. Το διάλυμα διατηρείται για μεγάλο χρονικό διάστημα και καθαρίζει τζάμια, καθρέφτες, τις αποθέσεις ασβεστίου στις βρύσες και κεραμικά πλακίδια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l-GR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4" name="lemon" descr=""/>
          <p:cNvPicPr/>
          <p:nvPr/>
        </p:nvPicPr>
        <p:blipFill>
          <a:blip r:embed="rId3"/>
          <a:stretch/>
        </p:blipFill>
        <p:spPr>
          <a:xfrm>
            <a:off x="1116000" y="4024440"/>
            <a:ext cx="723960" cy="628560"/>
          </a:xfrm>
          <a:prstGeom prst="rect">
            <a:avLst/>
          </a:prstGeom>
          <a:ln w="0">
            <a:noFill/>
          </a:ln>
        </p:spPr>
      </p:pic>
      <p:sp>
        <p:nvSpPr>
          <p:cNvPr id="885" name=""/>
          <p:cNvSpPr/>
          <p:nvPr/>
        </p:nvSpPr>
        <p:spPr>
          <a:xfrm>
            <a:off x="2340000" y="3908520"/>
            <a:ext cx="5545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Το ξύδι χρησιμοποιείται για απομάκρυνση λιπαρών ουσιών και μούχλας. Για λίπη μπορούμε επίσης να χρησιμοποιήσουμε χυμό λεμονιού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6" name="borax_products_small" descr=""/>
          <p:cNvPicPr/>
          <p:nvPr/>
        </p:nvPicPr>
        <p:blipFill>
          <a:blip r:embed="rId4"/>
          <a:stretch/>
        </p:blipFill>
        <p:spPr>
          <a:xfrm>
            <a:off x="1063800" y="5194440"/>
            <a:ext cx="771480" cy="971280"/>
          </a:xfrm>
          <a:prstGeom prst="rect">
            <a:avLst/>
          </a:prstGeom>
          <a:ln w="0">
            <a:noFill/>
          </a:ln>
        </p:spPr>
      </p:pic>
      <p:sp>
        <p:nvSpPr>
          <p:cNvPr id="887" name=""/>
          <p:cNvSpPr/>
          <p:nvPr/>
        </p:nvSpPr>
        <p:spPr>
          <a:xfrm>
            <a:off x="2378160" y="4941720"/>
            <a:ext cx="6156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ιάλυμα ξυδιού σε ζεστό νερό είναι άριστο καθαριστικό για τζάμια, κεραμικά και πλαστικές επιφάνειε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Η απολύμανση επιφανειών μπορεί να γίνει με οινόπνευμα  ή ακόμα αν τις σκουπίσουμε με ζεστό νερό όπου έχουμε προσθέσει βόρακα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3124080" y="304920"/>
            <a:ext cx="46483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Απλές- Καθημερινές Λύσει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619280" y="692280"/>
            <a:ext cx="60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Απομάκρυνση υγρού ρύπου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2133720"/>
            <a:ext cx="54720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υγρός ρύπος συμπυκνώνεται με τη βοήθεια τη δράση του λουτρού και του τασενεργο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-252360" y="907920"/>
            <a:ext cx="11166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691920"/>
            <a:ext cx="71434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0000"/>
                </a:solidFill>
                <a:latin typeface="Arial"/>
              </a:rPr>
              <a:t>Αιώρηση του ρύπου στο λουτρό και παρεμπόδιση της επαναπροσρόφησής του στο υπόστρωμα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3640" y="2565000"/>
            <a:ext cx="70563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χηματισμός ηλεκτρικών και στερεοχημικών φραγμάτω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Διαλυτοποίηση μέσα στα μικήλλια του τασενεργο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Γαλακτωματοποίησ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φρισμό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8103cov2bubbles" descr=""/>
          <p:cNvPicPr/>
          <p:nvPr/>
        </p:nvPicPr>
        <p:blipFill>
          <a:blip r:embed="rId1"/>
          <a:stretch/>
        </p:blipFill>
        <p:spPr>
          <a:xfrm>
            <a:off x="5510160" y="4272120"/>
            <a:ext cx="2806920" cy="20365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975280" y="18900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Διαδικασία απορρύπανση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940360" y="54936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195640" y="549360"/>
            <a:ext cx="5805360" cy="898560"/>
          </a:xfrm>
          <a:prstGeom prst="rect">
            <a:avLst/>
          </a:prstGeom>
          <a:solidFill>
            <a:srgbClr val="0033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09320" y="533520"/>
            <a:ext cx="5791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Δράση του σαπουνιού και των απορρυπαντικών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48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δράση των σαπουνιών και των απορρυπαντικών οφείλεται σε τρεις τύπους ενέργεια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Χημική ενέργεια,η οποία παρέχεται από τις τασενεργές ενώσει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Θερμική ενέργεια, η οποία παρέχεται από το ζεστό νερ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ηχανική ενέργεια, η οποία παρέχεται από τις μηχανές ή τα χέρι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484360" y="5246640"/>
            <a:ext cx="4608720" cy="1238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666880" y="533520"/>
            <a:ext cx="410544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l-GR" sz="2800" spc="-1" strike="noStrike" u="sng">
                <a:solidFill>
                  <a:srgbClr val="008000"/>
                </a:solidFill>
                <a:uFillTx/>
                <a:latin typeface="Arial"/>
                <a:hlinkClick r:id="rId1" action="ppaction://hlinksldjump"/>
              </a:rPr>
              <a:t>Σαπούν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l-GR" sz="2800" spc="-1" strike="noStrike" u="sng">
                <a:solidFill>
                  <a:srgbClr val="008000"/>
                </a:solidFill>
                <a:uFillTx/>
                <a:latin typeface="Arial"/>
                <a:hlinkClick r:id="rId2" action="ppaction://hlinksldjump"/>
              </a:rPr>
              <a:t>Απορρυπαντικ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003300"/>
                </a:solidFill>
                <a:latin typeface="Arial"/>
              </a:rPr>
              <a:t>- για τα ρούχ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003300"/>
                </a:solidFill>
                <a:latin typeface="Arial"/>
              </a:rPr>
              <a:t>- </a:t>
            </a:r>
            <a:r>
              <a:rPr b="0" lang="el-GR" sz="2800" spc="-1" strike="noStrike" u="sng">
                <a:solidFill>
                  <a:srgbClr val="008000"/>
                </a:solidFill>
                <a:uFillTx/>
                <a:latin typeface="Arial"/>
                <a:hlinkClick r:id="rId3" action="ppaction://hlinksldjump"/>
              </a:rPr>
              <a:t>για τα πιάτ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003300"/>
                </a:solidFill>
                <a:latin typeface="Arial"/>
              </a:rPr>
              <a:t>- </a:t>
            </a:r>
            <a:r>
              <a:rPr b="0" lang="el-GR" sz="2800" spc="-1" strike="noStrike" u="sng">
                <a:solidFill>
                  <a:srgbClr val="008000"/>
                </a:solidFill>
                <a:uFillTx/>
                <a:latin typeface="Arial"/>
                <a:hlinkClick r:id="rId4" action="ppaction://hlinksldjump"/>
              </a:rPr>
              <a:t>για τα τζάμι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l-GR" sz="2800" spc="-1" strike="noStrike" u="sng">
                <a:solidFill>
                  <a:srgbClr val="008000"/>
                </a:solidFill>
                <a:uFillTx/>
                <a:latin typeface="Arial"/>
                <a:hlinkClick r:id="rId5" action="ppaction://hlinksldjump"/>
              </a:rPr>
              <a:t>Στεγνό καθάρισμ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l-GR" sz="2800" spc="-1" strike="noStrike" u="sng">
                <a:solidFill>
                  <a:srgbClr val="008000"/>
                </a:solidFill>
                <a:uFillTx/>
                <a:latin typeface="Arial"/>
                <a:hlinkClick r:id="rId6" action="ppaction://hlinksldjump"/>
              </a:rPr>
              <a:t>Χλωρίν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l-GR" sz="2800" spc="-1" strike="noStrike" u="sng">
                <a:solidFill>
                  <a:srgbClr val="008000"/>
                </a:solidFill>
                <a:uFillTx/>
                <a:latin typeface="Arial"/>
                <a:hlinkClick r:id="rId7" action="ppaction://hlinksldjump"/>
              </a:rPr>
              <a:t>Καθαριότητα σώματος</a:t>
            </a:r>
            <a:r>
              <a:rPr b="0" lang="el-GR" sz="2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l-GR" sz="2800" spc="-1" strike="noStrike" u="sng">
                <a:solidFill>
                  <a:srgbClr val="008000"/>
                </a:solidFill>
                <a:uFillTx/>
                <a:latin typeface="Arial"/>
                <a:hlinkClick r:id="rId8" action="ppaction://hlinksldjump"/>
              </a:rPr>
              <a:t>Υλικά συσκευασία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9"/>
          <a:stretch/>
        </p:blipFill>
        <p:spPr>
          <a:xfrm>
            <a:off x="7236000" y="5589720"/>
            <a:ext cx="1295280" cy="898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195640" y="549360"/>
            <a:ext cx="5759280" cy="7920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95280" y="549360"/>
            <a:ext cx="576108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Σαπούν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2241000"/>
            <a:ext cx="58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α σαπούνια είναι υδατοδιαλυτά άλατα του καλίου ή του νατρίου με τα λιπαρά οξέα και φτιάχνονται από λίπη και έλαια με επίδραση ισχυρής βάση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6092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    </a:t>
            </a:r>
            <a:r>
              <a:rPr b="1" lang="el-GR" sz="18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Λίπος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    Σάπωνας          Γλυκερίνη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629400" y="2133720"/>
            <a:ext cx="1847880" cy="143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838080" y="3975120"/>
          <a:ext cx="7467840" cy="204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3975120"/>
                    <a:ext cx="7467840" cy="20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5334120" y="4800600"/>
            <a:ext cx="838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904760" y="2666520"/>
            <a:ext cx="47242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Υδρόφιλο τμήμ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Υδρόφοβο τμήμ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26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1280" y="1197000"/>
            <a:ext cx="7705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Οι σάπωνες οφείλουν την απορρυπαντική τους ικανότητα στη δομή του μορίου του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666880" y="4508640"/>
            <a:ext cx="3429000" cy="18018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7667640" y="549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21560" y="185760"/>
            <a:ext cx="11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Σαπούν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908000" y="692280"/>
            <a:ext cx="6048720" cy="792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549360"/>
            <a:ext cx="6048720" cy="106668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Οι 12 αρχές της Πράσινης Χημεία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2195640"/>
            <a:ext cx="815976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7640" indent="-647640">
              <a:lnSpc>
                <a:spcPct val="80000"/>
              </a:lnSpc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00"/>
                </a:solidFill>
                <a:latin typeface="Arial"/>
              </a:rPr>
              <a:t>Πρόληψ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647640">
              <a:lnSpc>
                <a:spcPct val="80000"/>
              </a:lnSpc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00"/>
                </a:solidFill>
                <a:latin typeface="Arial"/>
              </a:rPr>
              <a:t>Οικονομία ατόμω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647640">
              <a:lnSpc>
                <a:spcPct val="80000"/>
              </a:lnSpc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00"/>
                </a:solidFill>
                <a:latin typeface="Arial"/>
              </a:rPr>
              <a:t>Λιγότερο επικίνδυνες χημικές συνθέσει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647640">
              <a:lnSpc>
                <a:spcPct val="80000"/>
              </a:lnSpc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00"/>
                </a:solidFill>
                <a:latin typeface="Arial"/>
              </a:rPr>
              <a:t>Σχεδιασμός ασφαλέστερων χημικών προϊόντω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647640">
              <a:lnSpc>
                <a:spcPct val="80000"/>
              </a:lnSpc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00"/>
                </a:solidFill>
                <a:latin typeface="Arial"/>
              </a:rPr>
              <a:t>Ασφαλέστεροι διαλύτες και οικονομικά μέσ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647640">
              <a:lnSpc>
                <a:spcPct val="80000"/>
              </a:lnSpc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00"/>
                </a:solidFill>
                <a:latin typeface="Arial"/>
              </a:rPr>
              <a:t>Σχεδιασμός για ενεργειακή αποτελεσματικότητ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647640">
              <a:lnSpc>
                <a:spcPct val="80000"/>
              </a:lnSpc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00"/>
                </a:solidFill>
                <a:latin typeface="Arial"/>
              </a:rPr>
              <a:t>Χρήση ανανεώσιμων πρώτων υλώ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647640">
              <a:lnSpc>
                <a:spcPct val="80000"/>
              </a:lnSpc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00"/>
                </a:solidFill>
                <a:latin typeface="Arial"/>
              </a:rPr>
              <a:t>Μείωση ενδιαμέσων παραγώγω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647640">
              <a:lnSpc>
                <a:spcPct val="80000"/>
              </a:lnSpc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00"/>
                </a:solidFill>
                <a:latin typeface="Arial"/>
              </a:rPr>
              <a:t>Κατάλυσ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647640">
              <a:lnSpc>
                <a:spcPct val="80000"/>
              </a:lnSpc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00"/>
                </a:solidFill>
                <a:latin typeface="Arial"/>
              </a:rPr>
              <a:t>Σχεδιασμός αποικοδομήσιμων προϊόντω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647640">
              <a:lnSpc>
                <a:spcPct val="80000"/>
              </a:lnSpc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00"/>
                </a:solidFill>
                <a:latin typeface="Arial"/>
              </a:rPr>
              <a:t>Ανάλυση πραγματικού χρόνου για πρόληψη της ρύπανσ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647640">
              <a:lnSpc>
                <a:spcPct val="80000"/>
              </a:lnSpc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00"/>
                </a:solidFill>
                <a:latin typeface="Arial"/>
              </a:rPr>
              <a:t>Ασφαλέστερη χημεία για την πρόληψη ατυχημάτω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6476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905120" y="189000"/>
            <a:ext cx="5638680" cy="107928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04760" y="-360"/>
            <a:ext cx="563868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Μειονεκτήματα των σαπουνιών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1052280"/>
            <a:ext cx="858384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ε σκληρό νερό σχηματίζονται τα αδιάλυτα άλατα του ασβεστίου και του μαγνησίο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2 C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N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[C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]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2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2 C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N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g[C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]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2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Δε δρα σε όξινο περιβάλλο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Δημιουργεί ανεπιθύμητα κατάλοιπα στα είδη υγιεινής, στα μαλλιά  και στα ρούχ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Ξηραίνει την επιδερμίδα και καταστρέφει τα μάλλινα και μεταξωτά υφάσματ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549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7696080" y="5943600"/>
            <a:ext cx="990720" cy="533520"/>
          </a:xfrm>
          <a:prstGeom prst="leftArrow">
            <a:avLst>
              <a:gd name="adj1" fmla="val 50000"/>
              <a:gd name="adj2" fmla="val 46424"/>
            </a:avLst>
          </a:prstGeom>
          <a:solidFill>
            <a:srgbClr val="008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42160" y="185760"/>
            <a:ext cx="11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Σαπούν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195640" y="549360"/>
            <a:ext cx="5759280" cy="7920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677880"/>
            <a:ext cx="568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Απορρυπαντικά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00000" y="1989000"/>
            <a:ext cx="73152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Είναι τα βιομηχανικά προϊόντα που χρησιμοποιούνται για να απομακρύνουν κάθε ανεπιθύμητο υλικό που αποτελεί το ρύπο από επιφάνειες, ρούχα και σώμα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Ανάλογα με το ποσοστό νερού που περιέχουν κυκλοφορούν στο εμπόριο με τη μορφή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Σκόν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Υγρο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Πολτο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295280" cy="898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116000" y="1197000"/>
            <a:ext cx="7315200" cy="41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0000"/>
                </a:solidFill>
                <a:latin typeface="Arial"/>
              </a:rPr>
              <a:t>Συστατικά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ασενεργές ή επιφανειοδραστικές ενώσεις, που κατά κύριο λόγο θα κάνουν την απορρύπανσ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ρόσθετα ή γεμίσματα, τα οποία είτε βελτιώνουν την απορρυπαντική ικανότητα του τασενεργού είτε αυξάνουν το βάρος του τελικού προϊόντος είτε προδίδουν κάποια συγκεκριμένα χαρακτηριστικά στο τελικό προϊό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629400" y="6094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05720" y="28908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Απορρυπαντικ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447920" y="265104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ασενεργές ενώσει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692360" y="1844640"/>
            <a:ext cx="6689520" cy="33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0000"/>
                </a:solidFill>
                <a:latin typeface="Arial"/>
              </a:rPr>
              <a:t>Κατηγορίες τασενεργών ενώσεων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2400" spc="-1" strike="noStrike" u="sng">
                <a:solidFill>
                  <a:srgbClr val="008000"/>
                </a:solidFill>
                <a:uFillTx/>
                <a:latin typeface="Arial"/>
                <a:hlinkClick r:id="rId1" action="ppaction://hlinksldjump"/>
              </a:rPr>
              <a:t>Ανιονικέ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2400" spc="-1" strike="noStrike" u="sng">
                <a:solidFill>
                  <a:srgbClr val="008000"/>
                </a:solidFill>
                <a:uFillTx/>
                <a:latin typeface="Arial"/>
                <a:hlinkClick r:id="rId2" action="ppaction://hlinksldjump"/>
              </a:rPr>
              <a:t>Κατιονικέ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2400" spc="-1" strike="noStrike" u="sng">
                <a:solidFill>
                  <a:srgbClr val="008000"/>
                </a:solidFill>
                <a:uFillTx/>
                <a:latin typeface="Arial"/>
                <a:hlinkClick r:id="rId3" action="ppaction://hlinksldjump"/>
              </a:rPr>
              <a:t>Μη ιονικέ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2400" spc="-1" strike="noStrike" u="sng">
                <a:solidFill>
                  <a:srgbClr val="008000"/>
                </a:solidFill>
                <a:uFillTx/>
                <a:latin typeface="Arial"/>
                <a:hlinkClick r:id="rId4" action="ppaction://hlinksldjump"/>
              </a:rPr>
              <a:t>Αμφολυτικές</a:t>
            </a:r>
            <a:r>
              <a:rPr b="0" lang="el-GR" sz="2400" spc="-1" strike="noStrike" u="sng">
                <a:solidFill>
                  <a:srgbClr val="008000"/>
                </a:solidFill>
                <a:uFillTx/>
                <a:latin typeface="Arial"/>
                <a:hlinkClick r:id="rId5" action="ppaction://hlinksldjump"/>
              </a:rPr>
              <a:t> ή επαμφοτερίζουσε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19720" y="289080"/>
            <a:ext cx="44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πορρυπαντικά- Τασενεργές ενώσει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95680" y="60948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981080" y="68580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Ανιονικέ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14400" y="1471680"/>
            <a:ext cx="7543800" cy="57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α πιο συνηθισμένα μέλη της κατηγορίας είναι τα αλκυλο- και αλκυλαρυλο σουλφονικά άλατα και έχουν τους τύπους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-SO</a:t>
            </a:r>
            <a:r>
              <a:rPr b="0" lang="de-DE" sz="2400" spc="-1" strike="noStrike" baseline="-30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όπο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ν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2ν+1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και ν = 8 –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Καθαριστικ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9088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" action="ppaction://hlinkshowjump?jump=previousslide"/>
          </p:cNvPr>
          <p:cNvSpPr/>
          <p:nvPr/>
        </p:nvSpPr>
        <p:spPr>
          <a:xfrm>
            <a:off x="7848720" y="58672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848720" y="5943600"/>
            <a:ext cx="457200" cy="304920"/>
          </a:xfrm>
          <a:prstGeom prst="leftArrow">
            <a:avLst>
              <a:gd name="adj1" fmla="val 50000"/>
              <a:gd name="adj2" fmla="val 3748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previousslide"/>
          </p:cNvPr>
          <p:cNvSpPr/>
          <p:nvPr/>
        </p:nvSpPr>
        <p:spPr>
          <a:xfrm>
            <a:off x="8077320" y="5410080"/>
            <a:ext cx="685800" cy="7621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62120"/>
              <a:gd name="textAreaBottom" fmla="*/ 717840 h 762120"/>
            </a:gdLst>
            <a:ahLst/>
            <a:rect l="textAreaLeft" t="textAreaTop" r="textAreaRight" b="textAreaBottom"/>
            <a:pathLst>
              <a:path w="21600" h="24003">
                <a:moveTo>
                  <a:pt x="0" y="0"/>
                </a:moveTo>
                <a:lnTo>
                  <a:pt x="21600" y="0"/>
                </a:lnTo>
                <a:lnTo>
                  <a:pt x="21600" y="24003"/>
                </a:lnTo>
                <a:lnTo>
                  <a:pt x="0" y="24003"/>
                </a:lnTo>
                <a:close/>
              </a:path>
              <a:path fill="lightenLess" w="21600" h="240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03">
                <a:moveTo>
                  <a:pt x="21600" y="0"/>
                </a:moveTo>
                <a:lnTo>
                  <a:pt x="21600" y="24003"/>
                </a:lnTo>
                <a:lnTo>
                  <a:pt x="20200" y="22603"/>
                </a:lnTo>
                <a:lnTo>
                  <a:pt x="20200" y="1400"/>
                </a:lnTo>
                <a:close/>
              </a:path>
              <a:path fill="darkenLess" w="21600" h="24003">
                <a:moveTo>
                  <a:pt x="21600" y="24003"/>
                </a:moveTo>
                <a:lnTo>
                  <a:pt x="0" y="24003"/>
                </a:lnTo>
                <a:lnTo>
                  <a:pt x="1400" y="22603"/>
                </a:lnTo>
                <a:lnTo>
                  <a:pt x="20200" y="22603"/>
                </a:lnTo>
                <a:close/>
              </a:path>
              <a:path fill="lighten" w="21600" h="24003">
                <a:moveTo>
                  <a:pt x="0" y="240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03"/>
                </a:lnTo>
                <a:close/>
              </a:path>
              <a:path fill="darken" w="21600" h="24003">
                <a:moveTo>
                  <a:pt x="3794" y="12001"/>
                </a:moveTo>
                <a:lnTo>
                  <a:pt x="17806" y="4995"/>
                </a:lnTo>
                <a:lnTo>
                  <a:pt x="17806" y="1900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rId1" action="ppaction://hlinksldjump"/>
          </p:cNvPr>
          <p:cNvSpPr/>
          <p:nvPr/>
        </p:nvSpPr>
        <p:spPr>
          <a:xfrm>
            <a:off x="7696080" y="5943600"/>
            <a:ext cx="990720" cy="533520"/>
          </a:xfrm>
          <a:prstGeom prst="leftArrow">
            <a:avLst>
              <a:gd name="adj1" fmla="val 50000"/>
              <a:gd name="adj2" fmla="val 46424"/>
            </a:avLst>
          </a:prstGeom>
          <a:solidFill>
            <a:srgbClr val="008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06760" y="749160"/>
            <a:ext cx="4953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622760" y="965160"/>
            <a:ext cx="4952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495680" y="60948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19720" y="289080"/>
            <a:ext cx="44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πορρυπαντικά- Τασενεργές ενώσει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895480" y="3344760"/>
          <a:ext cx="3657600" cy="1222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95480" y="3344760"/>
                    <a:ext cx="3657600" cy="12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981080" y="68580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Κατιονικέ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90720" y="1447920"/>
            <a:ext cx="75438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ίναι συνήθως άλατα του τεταρτοταγούς αμμωνίου ή γενικά περιέχουν άζωτο θετικώς φορτισμένο: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ο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ν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2ν+1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και το Χ</a:t>
            </a:r>
            <a:r>
              <a:rPr b="0" lang="el-GR" sz="24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l-GR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</a:t>
            </a:r>
            <a:r>
              <a:rPr b="0" lang="el-GR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l-GR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ντιστατικ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πολυμαντικ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αλακτικ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9112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rId1" action="ppaction://hlinksldjump"/>
          </p:cNvPr>
          <p:cNvSpPr/>
          <p:nvPr/>
        </p:nvSpPr>
        <p:spPr>
          <a:xfrm>
            <a:off x="7696080" y="5943600"/>
            <a:ext cx="990720" cy="533520"/>
          </a:xfrm>
          <a:prstGeom prst="leftArrow">
            <a:avLst>
              <a:gd name="adj1" fmla="val 50000"/>
              <a:gd name="adj2" fmla="val 46424"/>
            </a:avLst>
          </a:prstGeom>
          <a:solidFill>
            <a:srgbClr val="008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495680" y="60948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19720" y="289080"/>
            <a:ext cx="44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πορρυπαντικά- Τασενεργές ενώσει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09480" y="2438280"/>
          <a:ext cx="2116080" cy="153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438280"/>
                    <a:ext cx="2116080" cy="15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914400" y="1471680"/>
            <a:ext cx="754380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ίναι συνήθως προϊόντα συμπύκνωσης του αιθυλενοξειδίο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ε λιπαρές αλκοόλες, οξέα, αμίνες και αμίδια του γενικού τύπο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-O-(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)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ν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ε πλυντήρια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81080" y="68580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Μη ιονικέ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72120" y="32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rId1" action="ppaction://hlinksldjump"/>
          </p:cNvPr>
          <p:cNvSpPr/>
          <p:nvPr/>
        </p:nvSpPr>
        <p:spPr>
          <a:xfrm>
            <a:off x="7696080" y="5943600"/>
            <a:ext cx="990720" cy="533520"/>
          </a:xfrm>
          <a:prstGeom prst="leftArrow">
            <a:avLst>
              <a:gd name="adj1" fmla="val 50000"/>
              <a:gd name="adj2" fmla="val 46424"/>
            </a:avLst>
          </a:prstGeom>
          <a:solidFill>
            <a:srgbClr val="008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95680" y="60948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289080"/>
            <a:ext cx="44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πορρυπαντικά- Τασενεργές ενώσει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4127400" y="2286000"/>
          <a:ext cx="1663920" cy="94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27400" y="2286000"/>
                    <a:ext cx="166392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981080" y="68580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Αμφολυτικές ή επαμφοτερίζουσε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471680"/>
            <a:ext cx="754380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ίναι ενώσεις που περιέχουν στο μόριο τους τεταρτοταγές άτομο αζώτου και ανιονική ρίζα (καρβοξύλιο ή σουλφονική ομάδα). Έχουν το γενικό τύπο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νάλογα με το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του διαλύματος στο οποίο βρίσκονται έχουν τις ιδιότητες των ανιονικών και κατιονικών τασενεργώ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7180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rId1" action="ppaction://hlinksldjump"/>
          </p:cNvPr>
          <p:cNvSpPr/>
          <p:nvPr/>
        </p:nvSpPr>
        <p:spPr>
          <a:xfrm>
            <a:off x="7696080" y="5943600"/>
            <a:ext cx="990720" cy="533520"/>
          </a:xfrm>
          <a:prstGeom prst="leftArrow">
            <a:avLst>
              <a:gd name="adj1" fmla="val 50000"/>
              <a:gd name="adj2" fmla="val 46424"/>
            </a:avLst>
          </a:prstGeom>
          <a:solidFill>
            <a:srgbClr val="008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495680" y="60948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19720" y="289080"/>
            <a:ext cx="44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πορρυπαντικά- Τασενεργές ενώσει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3157560" y="3000240"/>
          <a:ext cx="3090960" cy="127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57560" y="3000240"/>
                    <a:ext cx="3090960" cy="12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619280" y="981000"/>
            <a:ext cx="6324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0000"/>
                </a:solidFill>
                <a:latin typeface="Arial"/>
              </a:rPr>
              <a:t>Ιδιότητες τασενεργών ενώσεων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71640" y="1700280"/>
            <a:ext cx="7543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Διαβροχ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286000" y="2403360"/>
            <a:ext cx="982800" cy="10969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962520" y="2414520"/>
            <a:ext cx="982440" cy="10857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066680" y="4038480"/>
            <a:ext cx="6477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38080" y="365760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Γαλακτωματοποίηση και αιώρηση του ρύπο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971800" y="4419720"/>
            <a:ext cx="1565280" cy="14857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495680" y="60948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19720" y="289080"/>
            <a:ext cx="44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πορρυπαντικά- Τασενεργές ενώσει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195640" y="549360"/>
            <a:ext cx="5759280" cy="7920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81080" y="685800"/>
            <a:ext cx="632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Στόχοι Πράσινης Χημεία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Untitled-1%20copy" descr=""/>
          <p:cNvPicPr/>
          <p:nvPr/>
        </p:nvPicPr>
        <p:blipFill>
          <a:blip r:embed="rId1"/>
          <a:stretch/>
        </p:blipFill>
        <p:spPr>
          <a:xfrm>
            <a:off x="533520" y="519120"/>
            <a:ext cx="8496360" cy="5819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895480" y="907920"/>
            <a:ext cx="4267440" cy="84456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971800" y="1050840"/>
            <a:ext cx="419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0000"/>
                </a:solidFill>
                <a:latin typeface="Arial"/>
              </a:rPr>
              <a:t>Σουλφονικές ενώσει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14400" y="1981080"/>
            <a:ext cx="754380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Οι πρώτες σουλφονικές ενώσεις που χρησιμοποιήθηκαν ήταν τα αλκυλο- βενζολο σουλφονικά άλατα με νάτριο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).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8612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19720" y="289080"/>
            <a:ext cx="44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πορρυπαντικά- Τασενεργές ενώσει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95680" y="60948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762120" y="3809880"/>
          <a:ext cx="7848360" cy="130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809880"/>
                    <a:ext cx="7848360" cy="13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600200" y="1052640"/>
            <a:ext cx="7543800" cy="76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Πλεονεκτήματα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Φτηνές πρώτες ύλε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Όχι εδώδιμα προϊόντ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Δρουν σε σκληρό νερ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νθεκτικά στα οξέ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Μειονεκτήματα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Δεν είναι βιοαποικοδομήσιμε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19720" y="289080"/>
            <a:ext cx="44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πορρυπαντικά- Τασενεργές ενώσει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95680" y="60948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429000" y="990720"/>
            <a:ext cx="2895480" cy="685800"/>
          </a:xfrm>
          <a:prstGeom prst="ellipse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14400" y="147168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14400" y="1471680"/>
            <a:ext cx="7543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14400" y="1859040"/>
            <a:ext cx="754380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αρασκευάζονται σουλφονικές ενώσεις με ευθύγραμμη υδρόφοβη αλυσίδα. Ο κυριότερος εκπρόσωπος της κατηγορίας είναι το δωδεκυλο- βενζολο σουλφονικό νάτριο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DBS)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ίναι βιοαποικοδομήσιμ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3824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590920" y="60948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90920" y="22860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πορρυπαντικά- Τασενεργές ενώσεις- Πράσινες λύσει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1066680"/>
            <a:ext cx="2819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762120" y="3935520"/>
          <a:ext cx="7696080" cy="117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935520"/>
                    <a:ext cx="7696080" cy="11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581280" y="914400"/>
            <a:ext cx="2590920" cy="762120"/>
          </a:xfrm>
          <a:prstGeom prst="ellipse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81280" y="974880"/>
            <a:ext cx="2590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Ένζυμα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14400" y="1471680"/>
            <a:ext cx="75438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238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238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α ένζυμα χρησιμοποιούνται σε συνδυασμό με τις τασενεργές ενώσει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238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5238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λάττωση του ποσού της τασενεργής ουσία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5238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είωση της θερμοκρασίας του πλυσίματος κατά 20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238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5238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Κυριότερες κατηγορίες: Λιπάσες, Πρωτεάσες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238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μυλάσες, Κυτταρινάσε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66880" y="228600"/>
            <a:ext cx="65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πορρυπαντικά- Τασενεργές ενώσεις- Πράσινες λύσει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590920" y="60948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914400" y="1471680"/>
            <a:ext cx="75438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Μειονεκτήματα ενζυμικών προϊόντων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ροκαλούν ερεθισμού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Κοστίζει ακριβά η παραγωγή του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Έχουν σχετικά αργή δράσ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Μέτρα ασφαλεία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νθυλάκωση των ενζύμω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Καλύτερο αερισμό του χώρου εργασία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κπαίδευση των εργαζομένω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22860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πορρυπαντικά- Τασενεργές ενώσεις- Πράσινες λύσει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590920" y="60948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981080" y="884160"/>
            <a:ext cx="632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3000" spc="-1" strike="noStrike">
                <a:solidFill>
                  <a:srgbClr val="000000"/>
                </a:solidFill>
                <a:latin typeface="Arial"/>
              </a:rPr>
              <a:t>Σύνθεση αλκυλοβενζολίων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14400" y="1471680"/>
            <a:ext cx="75438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έθοδο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edel- Crafts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Μειονεκτήματα 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C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Φτωχή εκλεκτικότητ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αράγονται τοξικά και διαβρωτικά παραπροϊόντ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Υψηλό κόστος λειτουργία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Δεν αναγεννάτα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90920" y="22860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πορρυπαντικά- Τασενεργές ενώσεις- Πράσινες λύσει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590920" y="60948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685800" y="2286000"/>
          <a:ext cx="7772400" cy="105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86000"/>
                    <a:ext cx="7772400" cy="10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133720" y="838080"/>
            <a:ext cx="6324480" cy="990720"/>
          </a:xfrm>
          <a:prstGeom prst="ellipse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09680" y="884160"/>
            <a:ext cx="6172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0000"/>
                </a:solidFill>
                <a:latin typeface="Arial"/>
              </a:rPr>
              <a:t>Αντικατάσταση Α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Cl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l-GR" sz="3000" spc="-1" strike="noStrike">
                <a:solidFill>
                  <a:srgbClr val="000000"/>
                </a:solidFill>
                <a:latin typeface="Arial"/>
              </a:rPr>
              <a:t> από ζεόλιθο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" y="159228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14400" y="1600200"/>
            <a:ext cx="75438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Πλεονεκτήματα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ιο φιλικοί προς το περιβάλλο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Λιγότερα παραπροϊόντ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Λιγότερα απόβλητ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Δεν είναι επικίνδυνες ουσίε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Δεν προκαλούν διάβρωσ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ίναι αναγεννήσιμο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Έχουν μεγάλη απόδοσ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095880" y="2743200"/>
            <a:ext cx="2349720" cy="22478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2590920" y="22860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πορρυπαντικά- Τασενεργές ενώσεις- Πράσινες λύσει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590920" y="60948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981080" y="838080"/>
            <a:ext cx="6477120" cy="1219320"/>
          </a:xfrm>
          <a:prstGeom prst="ellipse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981080" y="914400"/>
            <a:ext cx="63248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0000"/>
                </a:solidFill>
                <a:latin typeface="Arial"/>
              </a:rPr>
              <a:t>Αντικατάσταση Α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Cl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l-GR" sz="3000" spc="-1" strike="noStrike">
                <a:solidFill>
                  <a:srgbClr val="000000"/>
                </a:solidFill>
                <a:latin typeface="Arial"/>
              </a:rPr>
              <a:t> από καταλύτη ζιρκόνιο (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Zr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90720" y="2057400"/>
            <a:ext cx="7543800" cy="31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Πλεονεκτήματα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ίναι επαναχρησιμοποιήσιμες ενώσει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απόδοσή τους είναι συγκρίσιμη με αυτή το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C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Έχουν καλή εκλεκτικότητ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90920" y="22860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πορρυπαντικά- Τασενεργές ενώσεις- Πράσινες λύσει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590920" y="60948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752480" y="838080"/>
            <a:ext cx="6400800" cy="1219320"/>
          </a:xfrm>
          <a:prstGeom prst="ellipse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905120" y="1066680"/>
            <a:ext cx="6095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0000"/>
                </a:solidFill>
                <a:latin typeface="Arial"/>
              </a:rPr>
              <a:t>Σύνθεση αλκυλοβενζολίων από α- ολεφίνε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14400" y="1600200"/>
            <a:ext cx="7543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47005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Καταλύτης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C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ζεόλιθο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800600" y="478476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90920" y="22860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πορρυπαντικά- Τασενεργές ενώσεις- Πράσινες λύσει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590920" y="60948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371600" y="2286000"/>
          <a:ext cx="6705720" cy="199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286000"/>
                    <a:ext cx="6705720" cy="19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523880" y="685800"/>
            <a:ext cx="6934320" cy="1063800"/>
          </a:xfrm>
          <a:prstGeom prst="ellipse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05120" y="762120"/>
            <a:ext cx="6172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0000"/>
                </a:solidFill>
                <a:latin typeface="Arial"/>
              </a:rPr>
              <a:t>Σύνθεση τασενεργών από ανανεώσιμες πηγέ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14400" y="20304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ιθερικά παράγωγα της γλυκερίνης με αμινοξέ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590920" y="22860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πορρυπαντικά- Τασενεργές ενώσεις- Πράσινες λύσει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590920" y="60948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2819520" y="2666880"/>
          <a:ext cx="3746520" cy="36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666880"/>
                    <a:ext cx="3746520" cy="36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258920" y="2852640"/>
            <a:ext cx="64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Ιστορική αναδρομ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057400" y="838080"/>
            <a:ext cx="5334120" cy="762120"/>
          </a:xfrm>
          <a:prstGeom prst="ellipse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133720" y="898560"/>
            <a:ext cx="5181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0000"/>
                </a:solidFill>
                <a:latin typeface="Arial"/>
              </a:rPr>
              <a:t>Σύνθεση βιοτασενεργών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14400" y="176832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914400" y="2062080"/>
            <a:ext cx="75438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σύνθεση γίνεται με τις βιοχημικές διεργασίες, δηλαδή με τη χρήση μικροοργανισμών, μυκήτων και βακτηρίων τα οποία λαμβάνονται σχεδόν κατά αποκλειστικά από το περιβάλλο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ίναι βιοδιασπάσιμ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Δεν είναι τοξικ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ίναι ακριβή η σύνθεσή του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90920" y="22860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πορρυπαντικά- Τασενεργές ενώσεις- Πράσινες λύσει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590920" y="60948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981080" y="609480"/>
            <a:ext cx="6248520" cy="1219320"/>
          </a:xfrm>
          <a:prstGeom prst="ellipse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133720" y="822240"/>
            <a:ext cx="5867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0000"/>
                </a:solidFill>
                <a:latin typeface="Arial"/>
              </a:rPr>
              <a:t>Σύνθεση φωτοδιασπάσιμων τασενεργών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914400" y="2013120"/>
            <a:ext cx="75438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ποτελούν τα τασενεργά του μέλλοντο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ε την επίδραση του ηλιακού φωτός διασπώνται προς ακίνδυνες για το περιβάλλον ενώσει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90920" y="22860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πορρυπαντικά- Τασενεργές ενώσεις- Πράσινες λύσει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60948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609480" y="2944800"/>
          <a:ext cx="7772400" cy="170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944800"/>
                    <a:ext cx="7772400" cy="17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447920" y="265104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Πρόσθετα απορρυπαντικώ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981080" y="884160"/>
            <a:ext cx="632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Πρόσθετα απορρυπαντικών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914400" y="1666800"/>
            <a:ext cx="75438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αξινομούνται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Ανόργανα πρόσθετα: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φωσφορικά και πολυφωσφορικά άλατα, ενώσεις που απελευθερώνουν οξυγόνο, πυριτικά άλατα, ανθρακικά άλατα κ.ά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Οργανικά πρόσθετα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: λευκαντικά, ένζυμα, αρώματα, βακτηριοστατικά κ.ά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638680" y="152280"/>
            <a:ext cx="34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Απορρυπαντικά- Πρόσθετ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638680" y="5335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981080" y="660240"/>
            <a:ext cx="6046920" cy="116856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81080" y="685800"/>
            <a:ext cx="5943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l-GR" sz="3000" spc="-1" strike="noStrike">
                <a:solidFill>
                  <a:srgbClr val="000000"/>
                </a:solidFill>
                <a:latin typeface="Arial"/>
              </a:rPr>
              <a:t>Φωσφορικά και Πολυφωσφορικά άλατα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33520" y="2133720"/>
            <a:ext cx="791820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Έχουν την ικανότητα να αποσκληραίνουν το νερό δεσμεύοντας τα ιόντα μαγνησίου και ασβεστίου. Χρησιμοποιείται κυρίως το τριφωσφορικό νάτριο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P)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ροκαλούν το φαινόμενο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ου ευτροφισμο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59100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eutroph1" descr=""/>
          <p:cNvPicPr/>
          <p:nvPr/>
        </p:nvPicPr>
        <p:blipFill>
          <a:blip r:embed="rId1"/>
          <a:stretch/>
        </p:blipFill>
        <p:spPr>
          <a:xfrm>
            <a:off x="5334120" y="4572000"/>
            <a:ext cx="3024000" cy="157176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5638680" y="152280"/>
            <a:ext cx="34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Απορρυπαντικά- Πρόσθετ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38680" y="5335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990720" y="3467160"/>
          <a:ext cx="3665520" cy="1485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467160"/>
                    <a:ext cx="3665520" cy="14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762120" y="14479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09480" y="99072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Αύξηση των φωσφορικών σε ποτάμια και λίμνε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95680" y="1447920"/>
            <a:ext cx="304920" cy="60948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05120" y="205740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Αύξηση του πληθυσμού των φυκιώ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2514600"/>
            <a:ext cx="304560" cy="609480"/>
          </a:xfrm>
          <a:prstGeom prst="downArrow">
            <a:avLst>
              <a:gd name="adj1" fmla="val 50000"/>
              <a:gd name="adj2" fmla="val 500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1744200">
            <a:off x="2971440" y="2514600"/>
            <a:ext cx="304920" cy="60948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38080" y="32004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Το νερό γίνεται θολ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81080" y="4038480"/>
            <a:ext cx="304920" cy="609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57200" y="480060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Μερικά φυτά νεκρώνουν από την έλλειψη φωτό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05520" y="3124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Θάνατος φυκιώ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248520" y="3716280"/>
            <a:ext cx="304560" cy="609480"/>
          </a:xfrm>
          <a:prstGeom prst="downArrow">
            <a:avLst>
              <a:gd name="adj1" fmla="val 50000"/>
              <a:gd name="adj2" fmla="val 500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038480" y="4267080"/>
            <a:ext cx="495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Τα βακτήρια χρησιμοποιούν το διαλυμένο 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για την αποσύνθεσ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248520" y="5195880"/>
            <a:ext cx="304560" cy="609480"/>
          </a:xfrm>
          <a:prstGeom prst="downArrow">
            <a:avLst>
              <a:gd name="adj1" fmla="val 50000"/>
              <a:gd name="adj2" fmla="val 500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284720" y="5734080"/>
            <a:ext cx="440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Τα ψάρια και τα ασπόνδυλα πεθαίνουν από την έλλειψη 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638680" y="152280"/>
            <a:ext cx="34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Απορρυπαντικά- Πρόσθετ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638680" y="5335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400560" y="762120"/>
            <a:ext cx="4752720" cy="57340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1295280" y="152388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νάπτυξη φυτοπλαγκτο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312408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ο νερό γίνεται θολό, νεκρώνονται τα φύκ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295280" y="510552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Πεθαίνουν τα ψάρια και νεκρώνονται τα θαλάσσια φυτ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638680" y="152280"/>
            <a:ext cx="34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Απορρυπαντικά- Πρόσθετ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638680" y="5335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981080" y="762120"/>
            <a:ext cx="5943600" cy="761760"/>
          </a:xfrm>
          <a:prstGeom prst="ellipse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057400" y="822240"/>
            <a:ext cx="5791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0000"/>
                </a:solidFill>
                <a:latin typeface="Arial"/>
              </a:rPr>
              <a:t>Νιτριλο- τριοξικό οξύ (ΝΤΑ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914400" y="3224160"/>
            <a:ext cx="75438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χηματίζει ταχύτητα ευδιάλυτα σύμπλοκα με τα ιόντα μαγνησίου και ασβεστίο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Δεν περιέχει φώσφορ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ποσυντίθεται εύκολ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Έχει τερατογόνο δράσ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581280" y="260280"/>
            <a:ext cx="541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Απορρυπαντικά- Πρόσθετα- Πράσινες λύσει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657600" y="60948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3657600" y="1805040"/>
          <a:ext cx="1881360" cy="9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1805040"/>
                    <a:ext cx="188136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676520" y="765000"/>
            <a:ext cx="6172200" cy="835200"/>
          </a:xfrm>
          <a:prstGeom prst="ellipse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52480" y="884160"/>
            <a:ext cx="60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Ανθρακικά και πυριτικά άλατα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914400" y="1817640"/>
            <a:ext cx="7543800" cy="29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κα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Έχουν την ικανότητα να αποσκληραίνουν το νερό δημιουργώντας ίζημ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ροκαλούν ερεθισμό στα μάτι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657600" y="60948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581280" y="260280"/>
            <a:ext cx="541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Απορρυπαντικά- Πρόσθετα- Πράσινες λύσει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2743200" y="838080"/>
            <a:ext cx="3809880" cy="650880"/>
          </a:xfrm>
          <a:prstGeom prst="ellipse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9520" y="898560"/>
            <a:ext cx="365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Ζεόλιθο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914400" y="4065480"/>
            <a:ext cx="7543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Δεσμεύουν εύκολα τα ιόντα ασβεστίου και μαγνησίο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Δεν είναι τοξικές ενώσει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ίναι φιλικοί προς το περιβάλλο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753000" y="27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Zeolite-1" descr=""/>
          <p:cNvPicPr/>
          <p:nvPr/>
        </p:nvPicPr>
        <p:blipFill>
          <a:blip r:embed="rId1"/>
          <a:stretch/>
        </p:blipFill>
        <p:spPr>
          <a:xfrm>
            <a:off x="6019920" y="4573440"/>
            <a:ext cx="2361960" cy="195120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3657600" y="60948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581280" y="260280"/>
            <a:ext cx="541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Απορρυπαντικά- Πρόσθετα- Πράσινες λύσει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2957400" y="1676520"/>
          <a:ext cx="4129200" cy="2355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57400" y="1676520"/>
                    <a:ext cx="4129200" cy="23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800" y="836280"/>
            <a:ext cx="770256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Προϊστορία- Αρχαίοι χρόνο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ρχαία Βαβυλωνία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2800 π.Χ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ίγυπτος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1500 π.Χ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ρχαία Ελλάδ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Φοίνικε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600 π.Χ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Ρώμη                         312 π.Χ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Γαληνός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μ.Χ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τώση της Ρώμης     467 μ.Χ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012000" y="1773360"/>
            <a:ext cx="1955520" cy="1117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300720" y="3716280"/>
            <a:ext cx="1689120" cy="1562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2895480" y="914400"/>
            <a:ext cx="4267440" cy="685800"/>
          </a:xfrm>
          <a:prstGeom prst="ellipse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971800" y="974880"/>
            <a:ext cx="411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0000"/>
                </a:solidFill>
                <a:latin typeface="Arial"/>
              </a:rPr>
              <a:t>Γλυκονικό οξύ</a:t>
            </a:r>
            <a:r>
              <a:rPr b="1" lang="el-GR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9480" y="3505320"/>
            <a:ext cx="77724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αρασκευάζεται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ε ενζυμική οξείδωση της γλυκόζ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ε οξείδωση της γλυκόζη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υποστηριζόμενη από καταλύτη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αλλάδι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42432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954760" y="3882960"/>
            <a:ext cx="2960640" cy="22100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3657600" y="60948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581280" y="260280"/>
            <a:ext cx="541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Απορρυπαντικά- Πρόσθετα- Πράσινες λύσει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3657600" y="1809720"/>
          <a:ext cx="2651040" cy="1467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57600" y="1809720"/>
                    <a:ext cx="2651040" cy="14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1828800" y="15238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Παρασκευή γλυκονικού οξέο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914400" y="2438280"/>
            <a:ext cx="7543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έριο οξυγόνο και καταλύτης παλλαδίου θα οξειδώσουν τη γλυκόζη προς γλυκονικό οξύ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½ 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NaO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267080" y="411480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657600" y="60948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581280" y="260280"/>
            <a:ext cx="541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Απορρυπαντικά- Πρόσθετα- Πράσινες λύσει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2590920" y="838080"/>
            <a:ext cx="5029200" cy="838440"/>
          </a:xfrm>
          <a:prstGeom prst="ellipse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590920" y="974880"/>
            <a:ext cx="5029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0000"/>
                </a:solidFill>
                <a:latin typeface="Arial"/>
              </a:rPr>
              <a:t>Πολυ(ασπαρτικό οξύ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38080" y="3505320"/>
            <a:ext cx="75438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αρασκευάζεται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πό την αντίδραση του μηλεϊνικού ανυδρίτη με αμμωνία και στη συνέχεια το ασπαρτικό οξύ που σχηματίζεται πολυμερίζεται προς πολύ(ασπαρτικό οξύ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657600" y="60948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581280" y="260280"/>
            <a:ext cx="541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Απορρυπαντικά- Πρόσθετα- Πράσινες λύσει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3581280" y="1981080"/>
          <a:ext cx="2624400" cy="14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1981080"/>
                    <a:ext cx="2624400" cy="14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3048120" y="20350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ΝΗ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114800" y="227664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01464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ηλεϊνικός ανυδρίτη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943600" y="310356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σπαρτικό οξ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57200" y="60958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σπαρτικό οξ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429000" y="608004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ολυ(ηλεκτριμίδιο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248520" y="60958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ολυ(ασπαρτικό οξύ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981080" y="88416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Παρασκευή πολυ(ασπαρτικού οξέος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657600" y="60948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581280" y="260280"/>
            <a:ext cx="541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Απορρυπαντικά- Πρόσθετα- Πράσινες λύσει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533520" y="1762200"/>
          <a:ext cx="2133360" cy="111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762200"/>
                    <a:ext cx="2133360" cy="11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5791320" y="1438200"/>
          <a:ext cx="2590560" cy="147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1438200"/>
                    <a:ext cx="2590560" cy="14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304920" y="3971880"/>
          <a:ext cx="8229600" cy="187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3971880"/>
                    <a:ext cx="8229600" cy="18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6172200" y="2111400"/>
            <a:ext cx="3200400" cy="436572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2557440" y="884160"/>
            <a:ext cx="417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Αρώματα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914400" y="1666800"/>
            <a:ext cx="75438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Χρησιμοποιούνται για να προσδώσουν ευχάριστη μυρωδιά κατά την πλύση, το στέγνωμα και το σιδέρωμα των ρούχων και κατά τον καθαρισμό των επιφανειών και του σώματο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ροκαλούν δερματικές αλλεργίες και βλάβες στα πνευμόνι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Ορισμένες ενώσεις είναι τοξικές κα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καρκινογόνε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638680" y="152280"/>
            <a:ext cx="34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Απορρυπαντικά- Πρόσθετ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638680" y="5335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2819520" y="990720"/>
            <a:ext cx="3733560" cy="60948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895480" y="990720"/>
            <a:ext cx="358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0000"/>
                </a:solidFill>
                <a:latin typeface="Arial"/>
              </a:rPr>
              <a:t>Νιτροενώσει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914400" y="16668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Οι πρώτες αρωματικές ουσίες που χρησιμοποιήθηκαν ήταν οι νιτροενώσεις και κυρίως οι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90720" y="57150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bet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kene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638680" y="5335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638680" y="152280"/>
            <a:ext cx="34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Απορρυπαντικά- Πρόσθετ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1474920" y="2709720"/>
          <a:ext cx="6221160" cy="277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4920" y="2709720"/>
                    <a:ext cx="6221160" cy="27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1547640" y="88416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Νιτροενώσει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1066680" y="2590920"/>
            <a:ext cx="7238880" cy="2590560"/>
            <a:chOff x="1066680" y="2590920"/>
            <a:chExt cx="7238880" cy="2590560"/>
          </a:xfrm>
        </p:grpSpPr>
        <p:grpSp>
          <p:nvGrpSpPr>
            <p:cNvPr id="376" name=""/>
            <p:cNvGrpSpPr/>
            <p:nvPr/>
          </p:nvGrpSpPr>
          <p:grpSpPr>
            <a:xfrm>
              <a:off x="1070280" y="2593800"/>
              <a:ext cx="7230600" cy="2583720"/>
              <a:chOff x="1070280" y="2593800"/>
              <a:chExt cx="7230600" cy="2583720"/>
            </a:xfrm>
          </p:grpSpPr>
          <p:grpSp>
            <p:nvGrpSpPr>
              <p:cNvPr id="377" name=""/>
              <p:cNvGrpSpPr/>
              <p:nvPr/>
            </p:nvGrpSpPr>
            <p:grpSpPr>
              <a:xfrm>
                <a:off x="1070280" y="2593800"/>
                <a:ext cx="1445760" cy="645840"/>
                <a:chOff x="1070280" y="2593800"/>
                <a:chExt cx="1445760" cy="64584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1151280" y="2593800"/>
                  <a:ext cx="1283760" cy="645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070280" y="2593800"/>
                  <a:ext cx="1445760" cy="64584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2516400" y="2593800"/>
                <a:ext cx="1445400" cy="645840"/>
                <a:chOff x="2516400" y="2593800"/>
                <a:chExt cx="1445400" cy="64584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2597040" y="2593800"/>
                  <a:ext cx="1284120" cy="645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Xylen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2516400" y="2593800"/>
                  <a:ext cx="1445400" cy="64584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"/>
              <p:cNvGrpSpPr/>
              <p:nvPr/>
            </p:nvGrpSpPr>
            <p:grpSpPr>
              <a:xfrm>
                <a:off x="3962520" y="2593800"/>
                <a:ext cx="1445760" cy="645840"/>
                <a:chOff x="3962520" y="2593800"/>
                <a:chExt cx="1445760" cy="64584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4043520" y="2593800"/>
                  <a:ext cx="1283760" cy="645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Keton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3962520" y="2593800"/>
                  <a:ext cx="1445760" cy="64584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"/>
              <p:cNvGrpSpPr/>
              <p:nvPr/>
            </p:nvGrpSpPr>
            <p:grpSpPr>
              <a:xfrm>
                <a:off x="5409000" y="2593800"/>
                <a:ext cx="1445760" cy="645840"/>
                <a:chOff x="5409000" y="2593800"/>
                <a:chExt cx="1445760" cy="64584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5490000" y="2593800"/>
                  <a:ext cx="1283760" cy="645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Mosken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5409000" y="2593800"/>
                  <a:ext cx="1445760" cy="64584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" name=""/>
              <p:cNvGrpSpPr/>
              <p:nvPr/>
            </p:nvGrpSpPr>
            <p:grpSpPr>
              <a:xfrm>
                <a:off x="6855480" y="2593800"/>
                <a:ext cx="1445400" cy="645840"/>
                <a:chOff x="6855480" y="2593800"/>
                <a:chExt cx="1445400" cy="64584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6936120" y="2593800"/>
                  <a:ext cx="1284120" cy="645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Tibetin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6855480" y="2593800"/>
                  <a:ext cx="1445400" cy="64584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2" name=""/>
              <p:cNvGrpSpPr/>
              <p:nvPr/>
            </p:nvGrpSpPr>
            <p:grpSpPr>
              <a:xfrm>
                <a:off x="1070280" y="3239640"/>
                <a:ext cx="1445760" cy="645840"/>
                <a:chOff x="1070280" y="3239640"/>
                <a:chExt cx="1445760" cy="64584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1151280" y="3239640"/>
                  <a:ext cx="1283760" cy="645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99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1070280" y="3239640"/>
                  <a:ext cx="1445760" cy="64584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5" name=""/>
              <p:cNvGrpSpPr/>
              <p:nvPr/>
            </p:nvGrpSpPr>
            <p:grpSpPr>
              <a:xfrm>
                <a:off x="2516400" y="3239640"/>
                <a:ext cx="1445400" cy="645840"/>
                <a:chOff x="2516400" y="3239640"/>
                <a:chExt cx="1445400" cy="64584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2597040" y="3239640"/>
                  <a:ext cx="1284120" cy="645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7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2516400" y="3239640"/>
                  <a:ext cx="1445400" cy="64584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8" name=""/>
              <p:cNvGrpSpPr/>
              <p:nvPr/>
            </p:nvGrpSpPr>
            <p:grpSpPr>
              <a:xfrm>
                <a:off x="3962520" y="3239640"/>
                <a:ext cx="1445760" cy="645840"/>
                <a:chOff x="3962520" y="3239640"/>
                <a:chExt cx="1445760" cy="64584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4043520" y="3239640"/>
                  <a:ext cx="1283760" cy="645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2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3962520" y="3239640"/>
                  <a:ext cx="1445760" cy="64584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" name=""/>
              <p:cNvGrpSpPr/>
              <p:nvPr/>
            </p:nvGrpSpPr>
            <p:grpSpPr>
              <a:xfrm>
                <a:off x="5409000" y="3239640"/>
                <a:ext cx="1445760" cy="645840"/>
                <a:chOff x="5409000" y="3239640"/>
                <a:chExt cx="1445760" cy="64584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5490000" y="3239640"/>
                  <a:ext cx="1283760" cy="645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5409000" y="3239640"/>
                  <a:ext cx="1445760" cy="64584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6855480" y="3239640"/>
                <a:ext cx="1445400" cy="645840"/>
                <a:chOff x="6855480" y="3239640"/>
                <a:chExt cx="1445400" cy="645840"/>
              </a:xfrm>
            </p:grpSpPr>
            <p:sp>
              <p:nvSpPr>
                <p:cNvPr id="405" name=""/>
                <p:cNvSpPr/>
                <p:nvPr/>
              </p:nvSpPr>
              <p:spPr>
                <a:xfrm>
                  <a:off x="6936120" y="3239640"/>
                  <a:ext cx="1284120" cy="645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6855480" y="3239640"/>
                  <a:ext cx="1445400" cy="64584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" name=""/>
              <p:cNvGrpSpPr/>
              <p:nvPr/>
            </p:nvGrpSpPr>
            <p:grpSpPr>
              <a:xfrm>
                <a:off x="1070280" y="3885480"/>
                <a:ext cx="1445760" cy="646200"/>
                <a:chOff x="1070280" y="3885480"/>
                <a:chExt cx="1445760" cy="64620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1151280" y="3885480"/>
                  <a:ext cx="1283760" cy="64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99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1070280" y="3885480"/>
                  <a:ext cx="1445760" cy="64620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" name=""/>
              <p:cNvGrpSpPr/>
              <p:nvPr/>
            </p:nvGrpSpPr>
            <p:grpSpPr>
              <a:xfrm>
                <a:off x="2516400" y="3885480"/>
                <a:ext cx="1445400" cy="646200"/>
                <a:chOff x="2516400" y="3885480"/>
                <a:chExt cx="1445400" cy="646200"/>
              </a:xfrm>
            </p:grpSpPr>
            <p:sp>
              <p:nvSpPr>
                <p:cNvPr id="411" name=""/>
                <p:cNvSpPr/>
                <p:nvPr/>
              </p:nvSpPr>
              <p:spPr>
                <a:xfrm>
                  <a:off x="2597040" y="3885480"/>
                  <a:ext cx="1284120" cy="64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1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2516400" y="3885480"/>
                  <a:ext cx="1445400" cy="64620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3" name=""/>
              <p:cNvGrpSpPr/>
              <p:nvPr/>
            </p:nvGrpSpPr>
            <p:grpSpPr>
              <a:xfrm>
                <a:off x="3962520" y="3885480"/>
                <a:ext cx="1445760" cy="646200"/>
                <a:chOff x="3962520" y="3885480"/>
                <a:chExt cx="1445760" cy="64620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4043520" y="3885480"/>
                  <a:ext cx="1283760" cy="64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6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3962520" y="3885480"/>
                  <a:ext cx="1445760" cy="64620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6" name=""/>
              <p:cNvGrpSpPr/>
              <p:nvPr/>
            </p:nvGrpSpPr>
            <p:grpSpPr>
              <a:xfrm>
                <a:off x="5409000" y="3885480"/>
                <a:ext cx="1445760" cy="646200"/>
                <a:chOff x="5409000" y="3885480"/>
                <a:chExt cx="1445760" cy="64620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5490000" y="3885480"/>
                  <a:ext cx="1283760" cy="64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5409000" y="3885480"/>
                  <a:ext cx="1445760" cy="64620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6855480" y="3885480"/>
                <a:ext cx="1445400" cy="646200"/>
                <a:chOff x="6855480" y="3885480"/>
                <a:chExt cx="1445400" cy="64620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6936120" y="3885480"/>
                  <a:ext cx="1284120" cy="64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0,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6855480" y="3885480"/>
                  <a:ext cx="1445400" cy="64620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2" name=""/>
              <p:cNvGrpSpPr/>
              <p:nvPr/>
            </p:nvGrpSpPr>
            <p:grpSpPr>
              <a:xfrm>
                <a:off x="1070280" y="4531680"/>
                <a:ext cx="1445760" cy="645840"/>
                <a:chOff x="1070280" y="4531680"/>
                <a:chExt cx="1445760" cy="64584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1151280" y="4531680"/>
                  <a:ext cx="1283760" cy="645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99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1070280" y="4531680"/>
                  <a:ext cx="1445760" cy="64584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5" name=""/>
              <p:cNvGrpSpPr/>
              <p:nvPr/>
            </p:nvGrpSpPr>
            <p:grpSpPr>
              <a:xfrm>
                <a:off x="2516400" y="4531680"/>
                <a:ext cx="1445400" cy="645840"/>
                <a:chOff x="2516400" y="4531680"/>
                <a:chExt cx="1445400" cy="64584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2597040" y="4531680"/>
                  <a:ext cx="1284120" cy="645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8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2516400" y="4531680"/>
                  <a:ext cx="1445400" cy="64584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8" name=""/>
              <p:cNvGrpSpPr/>
              <p:nvPr/>
            </p:nvGrpSpPr>
            <p:grpSpPr>
              <a:xfrm>
                <a:off x="3962520" y="4531680"/>
                <a:ext cx="1445760" cy="645840"/>
                <a:chOff x="3962520" y="4531680"/>
                <a:chExt cx="1445760" cy="64584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4043520" y="4531680"/>
                  <a:ext cx="1283760" cy="645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4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3962520" y="4531680"/>
                  <a:ext cx="1445760" cy="64584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1" name=""/>
              <p:cNvGrpSpPr/>
              <p:nvPr/>
            </p:nvGrpSpPr>
            <p:grpSpPr>
              <a:xfrm>
                <a:off x="5409000" y="4531680"/>
                <a:ext cx="1445760" cy="645840"/>
                <a:chOff x="5409000" y="4531680"/>
                <a:chExt cx="1445760" cy="64584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5490000" y="4531680"/>
                  <a:ext cx="1283760" cy="645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5409000" y="4531680"/>
                  <a:ext cx="1445760" cy="64584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4" name=""/>
              <p:cNvGrpSpPr/>
              <p:nvPr/>
            </p:nvGrpSpPr>
            <p:grpSpPr>
              <a:xfrm>
                <a:off x="6855480" y="4531680"/>
                <a:ext cx="1445400" cy="645840"/>
                <a:chOff x="6855480" y="4531680"/>
                <a:chExt cx="1445400" cy="645840"/>
              </a:xfrm>
            </p:grpSpPr>
            <p:sp>
              <p:nvSpPr>
                <p:cNvPr id="435" name=""/>
                <p:cNvSpPr/>
                <p:nvPr/>
              </p:nvSpPr>
              <p:spPr>
                <a:xfrm>
                  <a:off x="6936120" y="4531680"/>
                  <a:ext cx="1284120" cy="645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6855480" y="4531680"/>
                  <a:ext cx="1445400" cy="64584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7" name=""/>
            <p:cNvSpPr/>
            <p:nvPr/>
          </p:nvSpPr>
          <p:spPr>
            <a:xfrm>
              <a:off x="1066680" y="2590920"/>
              <a:ext cx="7238880" cy="259056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4267080" y="553068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Research Institute for Fragrance Materials,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FM (199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638680" y="5335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638680" y="152280"/>
            <a:ext cx="34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Απορρυπαντικά- Πρόσθετ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066680" y="1600200"/>
            <a:ext cx="723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οσότητες νιτροενώσεων σε τόνους που χρησιμοποιήθηκαν το 1992, 1995 και 19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2666880" y="765000"/>
            <a:ext cx="4876920" cy="792360"/>
          </a:xfrm>
          <a:prstGeom prst="ellipse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666880" y="884160"/>
            <a:ext cx="4800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0000"/>
                </a:solidFill>
                <a:latin typeface="Arial"/>
              </a:rPr>
              <a:t>Πολυκυκλικές ενώσει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914400" y="16668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Ως εναλλακτική λύση προτάθηκε η χρήση πολυκυκλικών ενώσεω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09880" y="49528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HC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143000" y="54450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Δεν είναι βιοαποικοδομήσιμε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581280" y="260280"/>
            <a:ext cx="541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Απορρυπαντικά- Πρόσθετα- Πράσινες λύσει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657600" y="60948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2438280" y="2692440"/>
          <a:ext cx="3332160" cy="204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692440"/>
                    <a:ext cx="3332160" cy="20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2514600" y="765000"/>
            <a:ext cx="5181480" cy="792360"/>
          </a:xfrm>
          <a:prstGeom prst="ellipse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514600" y="884160"/>
            <a:ext cx="5181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0000"/>
                </a:solidFill>
                <a:latin typeface="Arial"/>
              </a:rPr>
              <a:t>Μακροκυκλικές ενώσει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914400" y="16668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ία πιο αποτελεσματική λύση αποτέλεσε η χρήση μακροκυκλικών ενώσεω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895480" y="39625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εκατριανοδιοϊκό όξ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657600" y="556272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εκατριανοδιοϊκό αιθυλένι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581280" y="260280"/>
            <a:ext cx="541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Απορρυπαντικά- Πρόσθετα- Πράσινες λύσει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657600" y="60948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838080" y="2746440"/>
          <a:ext cx="7086600" cy="105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6440"/>
                    <a:ext cx="7086600" cy="10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0" name=""/>
          <p:cNvGraphicFramePr/>
          <p:nvPr/>
        </p:nvGraphicFramePr>
        <p:xfrm>
          <a:off x="914400" y="4114800"/>
          <a:ext cx="2552760" cy="251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4114800"/>
                    <a:ext cx="2552760" cy="25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914400" y="1666800"/>
            <a:ext cx="75438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Πλεονεκτήματα μακροκυκλικών ενώσεων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Δεν προκαλούν προβλήματα στην υγεία του ανθρώπο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ίναι βιοαποικοδομήσιμε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Μειονεκτήματα μακροκυκλικών ενώσεων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ο δεκατριανοδιοϊκό οξύ είναι ακριβή πρώτη ύλ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ίναι διαθέσιμο σε περιορισμένη ποσότητ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581280" y="260280"/>
            <a:ext cx="541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Απορρυπαντικά- Πρόσθετα- Πράσινες λύσει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657600" y="60948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Μεσαίωνας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604980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το Μεσαίωνα το κέντρο παρασκευής του σαπουνιού ήταν η Μασσαλία. Μετά επεκτάθηκε στην Γένοβα και στην Ελβετία. Κάποιοι ισχυρίζονταν ότι το σαπούνι παρασκευαζόταν κυρίως στη Γερμανία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ladle" descr=""/>
          <p:cNvPicPr/>
          <p:nvPr/>
        </p:nvPicPr>
        <p:blipFill>
          <a:blip r:embed="rId1"/>
          <a:stretch/>
        </p:blipFill>
        <p:spPr>
          <a:xfrm>
            <a:off x="6516720" y="2060640"/>
            <a:ext cx="2106720" cy="2881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2556000" y="835200"/>
            <a:ext cx="4824360" cy="649080"/>
          </a:xfrm>
          <a:prstGeom prst="ellipse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666880" y="884160"/>
            <a:ext cx="4648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0000"/>
                </a:solidFill>
                <a:latin typeface="Arial"/>
              </a:rPr>
              <a:t>Χωρίς άρωμα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914400" y="1981080"/>
            <a:ext cx="7543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ία αποτελεσματική λύση θα ήταν η χρήση απορρυπαντικών χωρίς άρωμα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grance- free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Υποσυνείδητα όμως οι καταναλωτές συνδυάζουν την καθαριότητα με το άρωμ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>
            <a:hlinkClick r:id="rId1" action="ppaction://hlinksldjump"/>
          </p:cNvPr>
          <p:cNvSpPr/>
          <p:nvPr/>
        </p:nvSpPr>
        <p:spPr>
          <a:xfrm>
            <a:off x="7696080" y="5943600"/>
            <a:ext cx="990720" cy="533520"/>
          </a:xfrm>
          <a:prstGeom prst="leftArrow">
            <a:avLst>
              <a:gd name="adj1" fmla="val 50000"/>
              <a:gd name="adj2" fmla="val 46424"/>
            </a:avLst>
          </a:prstGeom>
          <a:solidFill>
            <a:srgbClr val="008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581280" y="260280"/>
            <a:ext cx="541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Απορρυπαντικά- Πρόσθετα- Πράσινες λύσει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657600" y="60948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2195640" y="549360"/>
            <a:ext cx="5759280" cy="7920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268360" y="620280"/>
            <a:ext cx="5616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Απορρυπαντικά πιάτων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4000" y="2781000"/>
            <a:ext cx="583236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Αποτελεσματική απορρύπανσ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Ασφάλεια για τα πιάτα και τα υπόλοιπα σκεύ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Ασφάλεια για το χρήστ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Σταθερότητα κατά την αποθήκευσ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Ευχάριστο άρωμα και εμφάνισ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Βολική συσκευασία και διανομ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116000" y="1844640"/>
            <a:ext cx="1727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040760" y="1955880"/>
            <a:ext cx="380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Βασικά χαρακτηριστικά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732720" y="620640"/>
            <a:ext cx="1942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732720" y="620640"/>
            <a:ext cx="1800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6516720" y="2855880"/>
            <a:ext cx="2232000" cy="1868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85460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Συστατικά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575784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Τασενεργές ενώσει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Πρόσθετ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ποσκληρυντικ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νώσεις που βοηθούν τη σταθερότητα και τη διασπορά (αλκοόλες, άλατα κ.ά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υντηρητικ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φριστικοί παράγοντε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ντιβακτηριδιακές ενώσει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Άρωμα και χρώμ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171840" y="258840"/>
            <a:ext cx="285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Απορρυπαντικά πιάτω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6527880" y="2073240"/>
            <a:ext cx="2158920" cy="287964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6248520" y="6094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Κατηγορίε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67690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Για το πλύσιμο στο χέρι (υγρής μορφής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εριέχουν συνδυασμό ανιονικών και μη ιονικών τασενεργώ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Δεν περιέχουν φωσφορικά άλατ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Έχουν χαμηλή τοξικότητ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Έχουν ουδέτερο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Για το πλυντήριο πιάτων (υγρής και στερεάς μορφής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εριέχουν φωσφορικά άλατ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10,5 &l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&lt; 12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ίναι ερεθιστικές ή διαβρωτικές ενώσει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mcs-12050" descr=""/>
          <p:cNvPicPr/>
          <p:nvPr/>
        </p:nvPicPr>
        <p:blipFill>
          <a:blip r:embed="rId1"/>
          <a:stretch/>
        </p:blipFill>
        <p:spPr>
          <a:xfrm>
            <a:off x="6781680" y="4437000"/>
            <a:ext cx="1152720" cy="1584360"/>
          </a:xfrm>
          <a:prstGeom prst="rect">
            <a:avLst/>
          </a:prstGeom>
          <a:ln w="0">
            <a:noFill/>
          </a:ln>
        </p:spPr>
      </p:pic>
      <p:pic>
        <p:nvPicPr>
          <p:cNvPr id="487" name="mpoul" descr=""/>
          <p:cNvPicPr/>
          <p:nvPr/>
        </p:nvPicPr>
        <p:blipFill>
          <a:blip r:embed="rId2"/>
          <a:stretch/>
        </p:blipFill>
        <p:spPr>
          <a:xfrm>
            <a:off x="6858000" y="1600200"/>
            <a:ext cx="1143000" cy="226368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6171840" y="258840"/>
            <a:ext cx="285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Απορρυπαντικά πιάτω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248520" y="6094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1600200" y="824040"/>
            <a:ext cx="6705720" cy="1081080"/>
          </a:xfrm>
          <a:prstGeom prst="ellipse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692000" y="1025280"/>
            <a:ext cx="661356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0000"/>
                </a:solidFill>
                <a:latin typeface="Arial"/>
              </a:rPr>
              <a:t>Τασενεργές ενώσεις- Πράσινες λύσει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11280" y="2060280"/>
            <a:ext cx="77724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Ένζυμα (2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Ζεόλιθο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(σύνθεση αλκυλοβενζολίω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iedel- Craf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Καταλύτης Zr (σύνθεση αλκυλοβενζολίων Friedel- Craf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Σύνθεση αλκυλοβενζολίων από α- ολεφίνε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ασενεργά προερχόμενα από ανανεώσιμες ύλε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Βιοτασενεργ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Φωτοδιασπώμενα τασενεργά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171840" y="258840"/>
            <a:ext cx="285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Απορρυπαντικά πιάτω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248520" y="6094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627280" y="1052640"/>
            <a:ext cx="4992840" cy="776160"/>
          </a:xfrm>
          <a:prstGeom prst="ellipse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666520" y="1052640"/>
            <a:ext cx="495324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Πρόσθετα- Πράσινες λύσει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9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νθρακικά και πυριτικά άλατα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κα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SiO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Ζεόλιθο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Γλυκονικό οξ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ολ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υ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(ασπαρτικό οξύ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ολυκυκλικές ενώσεις (άρωμα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ακροκυκλικές ενώσεις (άρωμα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>
            <a:hlinkClick r:id="rId1" action="ppaction://hlinksldjump"/>
          </p:cNvPr>
          <p:cNvSpPr/>
          <p:nvPr/>
        </p:nvSpPr>
        <p:spPr>
          <a:xfrm>
            <a:off x="7696080" y="5943600"/>
            <a:ext cx="990720" cy="533520"/>
          </a:xfrm>
          <a:prstGeom prst="leftArrow">
            <a:avLst>
              <a:gd name="adj1" fmla="val 50000"/>
              <a:gd name="adj2" fmla="val 46424"/>
            </a:avLst>
          </a:prstGeom>
          <a:solidFill>
            <a:srgbClr val="008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171840" y="258840"/>
            <a:ext cx="285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Απορρυπαντικά πιάτω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248520" y="6094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2195640" y="549360"/>
            <a:ext cx="5759280" cy="7920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195640" y="620280"/>
            <a:ext cx="5689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Καθαριστικά για τα τζάμια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525456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Τα κοινά καθαριστικά (αμμωνία και αλκοόλες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6516720" y="2205000"/>
            <a:ext cx="1871640" cy="2592360"/>
          </a:xfrm>
          <a:prstGeom prst="rect">
            <a:avLst/>
          </a:prstGeom>
          <a:ln w="0">
            <a:noFill/>
          </a:ln>
        </p:spPr>
      </p:pic>
      <p:pic>
        <p:nvPicPr>
          <p:cNvPr id="505" name="amm" descr=""/>
          <p:cNvPicPr/>
          <p:nvPr/>
        </p:nvPicPr>
        <p:blipFill>
          <a:blip r:embed="rId2"/>
          <a:stretch/>
        </p:blipFill>
        <p:spPr>
          <a:xfrm>
            <a:off x="2819520" y="3646440"/>
            <a:ext cx="1954080" cy="1382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050920" y="907920"/>
            <a:ext cx="54007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Τα κοινά καθαριστικ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10920" y="1699920"/>
            <a:ext cx="82803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αλαιότερες μέθοδοι παραλαβής της αμμωνία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ποσύνθεση αλάτων του αμμωνίου με αλκαλικά υδροξείδι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ναγωγή του νιτρώδους οξέος και των νιτρωδών αλάτω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791320" y="152280"/>
            <a:ext cx="30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Καθαριστικά για τα τζάμι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743120" y="1654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971640" y="1773360"/>
            <a:ext cx="671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547640" y="717408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403280" y="5445000"/>
            <a:ext cx="504720" cy="505080"/>
          </a:xfrm>
          <a:custGeom>
            <a:avLst/>
            <a:gdLst>
              <a:gd name="textAreaLeft" fmla="*/ 67320 w 504720"/>
              <a:gd name="textAreaRight" fmla="*/ 437400 w 504720"/>
              <a:gd name="textAreaTop" fmla="*/ 88200 h 505080"/>
              <a:gd name="textAreaBottom" fmla="*/ 366120 h 5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975240" y="5948280"/>
            <a:ext cx="77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Έκλυση Ν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ου προκαλούν αναπνευστικές διαταραχέ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11280" y="5229360"/>
            <a:ext cx="576000" cy="863640"/>
          </a:xfrm>
          <a:custGeom>
            <a:avLst/>
            <a:gdLst>
              <a:gd name="textAreaLeft" fmla="*/ 77040 w 576000"/>
              <a:gd name="textAreaRight" fmla="*/ 498960 w 576000"/>
              <a:gd name="textAreaTop" fmla="*/ 151200 h 863640"/>
              <a:gd name="textAreaBottom" fmla="*/ 62640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867280" y="5335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1523880" y="5334120"/>
          <a:ext cx="5867640" cy="43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5334120"/>
                    <a:ext cx="5867640" cy="43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8" name=""/>
          <p:cNvGraphicFramePr/>
          <p:nvPr/>
        </p:nvGraphicFramePr>
        <p:xfrm>
          <a:off x="990720" y="3652920"/>
          <a:ext cx="7696080" cy="47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3652920"/>
                    <a:ext cx="769608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2362320" y="914400"/>
            <a:ext cx="4572000" cy="695160"/>
          </a:xfrm>
          <a:prstGeom prst="ellipse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437920" y="691920"/>
            <a:ext cx="44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0000"/>
                </a:solidFill>
                <a:latin typeface="Arial"/>
              </a:rPr>
              <a:t>Μέθοδος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Haber- Bosch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452080" cy="37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04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- 190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itz Haber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(πατέντα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N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08 Fritz Haber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κα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l Bosch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γερμανική εταιρεία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Χρήση καταλύτη οξειδίου του σιδήρου για την παραλαβή του υδρογόνου και την σύνθεση της αμμωνία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867280" y="5335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791320" y="152280"/>
            <a:ext cx="30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Καθαριστικά για τα τζάμι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611280" y="1628640"/>
            <a:ext cx="6765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Πηγή Η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: Υδραέριο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, 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κωκ) και υδρατμοί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Υδραέρι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ρχικά: 800- 9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°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ελικά: 45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°C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και καταλύτης οξειδίου του σιδήρο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Πηγή Ν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: Αέρα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119400" y="187200"/>
            <a:ext cx="580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Καθαριστικά για τα τζάμια-Μέθοδο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ber- Bos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071960" y="2590920"/>
            <a:ext cx="576360" cy="144360"/>
          </a:xfrm>
          <a:prstGeom prst="rightArrow">
            <a:avLst>
              <a:gd name="adj1" fmla="val 50000"/>
              <a:gd name="adj2" fmla="val 99813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8" name="hhh" descr=""/>
          <p:cNvPicPr/>
          <p:nvPr/>
        </p:nvPicPr>
        <p:blipFill>
          <a:blip r:embed="rId1"/>
          <a:stretch/>
        </p:blipFill>
        <p:spPr>
          <a:xfrm>
            <a:off x="7010280" y="2362320"/>
            <a:ext cx="1332000" cy="289548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3200400" y="5335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0" name=""/>
          <p:cNvGraphicFramePr/>
          <p:nvPr/>
        </p:nvGraphicFramePr>
        <p:xfrm>
          <a:off x="1033560" y="3249720"/>
          <a:ext cx="6129360" cy="47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33560" y="3249720"/>
                    <a:ext cx="612936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11280" y="692280"/>
            <a:ext cx="7993080" cy="27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eblanc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791</a:t>
            </a:r>
            <a:r>
              <a:rPr b="1" lang="el-GR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NaCl +   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2H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2C                 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+ 2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 + Ca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56200" y="256536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56200" y="198900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56200" y="314172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86200" y="4114800"/>
            <a:ext cx="151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lva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4478400"/>
            <a:ext cx="8032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C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NaCl          NaH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N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67280" y="551664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12000" y="260280"/>
            <a:ext cx="1904760" cy="1447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246720" y="3505320"/>
            <a:ext cx="1220760" cy="1726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4174920" cy="403236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808200" y="194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992920" y="2733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718160" y="2343240"/>
            <a:ext cx="3684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ίεση: πάνω από 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Θερμοκρασία: 450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84360" y="5300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200400" y="5335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119400" y="187200"/>
            <a:ext cx="580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Καθαριστικά για τα τζάμια-Μέθοδο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ber- Bos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9" name=""/>
          <p:cNvGraphicFramePr/>
          <p:nvPr/>
        </p:nvGraphicFramePr>
        <p:xfrm>
          <a:off x="4741920" y="3724200"/>
          <a:ext cx="4021200" cy="422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41920" y="3724200"/>
                    <a:ext cx="402120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Πλεονεκτήματα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Τα αέρια αζώτου και υδρογόνου είναι φθηνά και άφθον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Μειώνεται ο χρόνος της αντίδρασ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Μειώνεται η θερμοκρασία της αντίδρασ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Μειονέκτημα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Απαιτούν υψηλές πιέσει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200400" y="5335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119400" y="187200"/>
            <a:ext cx="580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Καθαριστικά για τα τζάμια-Μέθοδο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ber- Bos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2819520" y="907920"/>
            <a:ext cx="4038480" cy="576360"/>
          </a:xfrm>
          <a:prstGeom prst="ellipse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819520" y="907920"/>
            <a:ext cx="403848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Τα νέα καθαριστικά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5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αμμωνία είναι τοξική και προκαλε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Δυσκολία στην αναπνο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ρεθισμούς στη γλώσσα, στη μύτη, στα μάτι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Υπόταση, υπνηλί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γκαύματ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ράσινη λύση: Καθαριστικά χωρίς αμμωνί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α συστατικά τους είναι: ξύδι και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βιοδιασπάσιμα τασενεργά προερχόμενα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πό φυσικές πρώτες ύλες (συνήθως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έχουν ως βάση την καρύδα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>
            <a:hlinkClick r:id="rId1" action="ppaction://hlinksldjump"/>
          </p:cNvPr>
          <p:cNvSpPr/>
          <p:nvPr/>
        </p:nvSpPr>
        <p:spPr>
          <a:xfrm>
            <a:off x="7696080" y="5943600"/>
            <a:ext cx="990720" cy="533520"/>
          </a:xfrm>
          <a:prstGeom prst="leftArrow">
            <a:avLst>
              <a:gd name="adj1" fmla="val 50000"/>
              <a:gd name="adj2" fmla="val 46424"/>
            </a:avLst>
          </a:prstGeom>
          <a:solidFill>
            <a:srgbClr val="008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791320" y="152280"/>
            <a:ext cx="30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Καθαριστικά για τα τζάμι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867280" y="5335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2195640" y="549360"/>
            <a:ext cx="5759280" cy="7920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195280" y="620280"/>
            <a:ext cx="5761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Στεγνό καθάρισμα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3048120" y="4038480"/>
            <a:ext cx="2736720" cy="246852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/>
          <p:nvPr/>
        </p:nvSpPr>
        <p:spPr>
          <a:xfrm>
            <a:off x="1042920" y="1557360"/>
            <a:ext cx="763272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Χρησιμοποιείται για ρούχα που είναι ευαίσθητα στον κοινό τρόπο πλύσης (ραιγιόν, μετάξι, μαλλί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Τα ρούχα μπορεί να χάσουν το σχήμα τους ή ακόμα και το χρώμα του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Δημιουργία δεσμών υδρογόνου μεταξύ των ινών και του νερο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Τα στάδια του στεγνού καθαρισμού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75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Οι λεκέδες επεξεργάζονται με τα χέρια και τοποθετούνται στα πλυντήρι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Προστίθενται οι οργανικοί διαλύτες, απορρυπαντικά και λίγο νερ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Απομάκρυνση του διαλύτη από τα υπόλοιπα απόβλητα και ανακύκλωσή το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Καθαρισμός των φίλτρω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705000" y="182520"/>
            <a:ext cx="22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Στεγνό καθάρισμ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7" name="pl" descr=""/>
          <p:cNvPicPr/>
          <p:nvPr/>
        </p:nvPicPr>
        <p:blipFill>
          <a:blip r:embed="rId1"/>
          <a:stretch/>
        </p:blipFill>
        <p:spPr>
          <a:xfrm>
            <a:off x="6477120" y="1600200"/>
            <a:ext cx="2011320" cy="2011320"/>
          </a:xfrm>
          <a:prstGeom prst="rect">
            <a:avLst/>
          </a:prstGeom>
          <a:ln w="0">
            <a:noFill/>
          </a:ln>
        </p:spPr>
      </p:pic>
      <p:pic>
        <p:nvPicPr>
          <p:cNvPr id="558" name="poo" descr=""/>
          <p:cNvPicPr/>
          <p:nvPr/>
        </p:nvPicPr>
        <p:blipFill>
          <a:blip r:embed="rId2"/>
          <a:stretch/>
        </p:blipFill>
        <p:spPr>
          <a:xfrm>
            <a:off x="6477120" y="3886200"/>
            <a:ext cx="2079360" cy="243540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/>
          <p:nvPr/>
        </p:nvSpPr>
        <p:spPr>
          <a:xfrm>
            <a:off x="6781680" y="5335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1600200" y="838080"/>
            <a:ext cx="6400800" cy="71928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0000"/>
                </a:solidFill>
                <a:latin typeface="Arial"/>
              </a:rPr>
              <a:t>Το τετραχλωροαιθυλένιο (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ERC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7918560" cy="43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Ο κύριος διαλύτης καθαρισμο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τις αρχές του 20ου αιώνα χρησιμοποιήθηκαν προϊόντα που είχαν ως βάση τους το πετρέλαιο (πολύ αναφλέξιμα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Το 1930 άρχισε να χρησιμοποιείται το τετραχλωροαιθυλένιο (γενικό αναισθητικό, καταπολέμηση παρασίτω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ήμερα το 80% των στεγνοκαθαριστηρίων το χρησιμοποιεί ως διαλύτη καθαρισμο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781680" y="5335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705000" y="182520"/>
            <a:ext cx="22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Στεγνό καθάρισμ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5" name=""/>
          <p:cNvGraphicFramePr/>
          <p:nvPr/>
        </p:nvGraphicFramePr>
        <p:xfrm>
          <a:off x="6019920" y="1638360"/>
          <a:ext cx="1523880" cy="13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1638360"/>
                    <a:ext cx="152388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620360" y="609480"/>
            <a:ext cx="604692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Ανησυχίες για τη χρήση του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8281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ο 1977  μία έρευνα του Εθνικού Ινστιτούτου Καρκίνου σε ποντίκια έδειξε αύξηση  του καρκίνου του ήπατο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ο 1978 το Εθνικό Ίδρυμα για την Επαγγελματική Ασφάλεια και Υγεία εκδίδει έκτακτο ανακοινωθέ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Άλλες τρεις μεγάλες μελέτες σε εργαζόμενους στεγνοκαθαριστηρίων ενίσχυσαν τις ανησυχίες για τη χρήση του (διάφοροι τρόποι καρκίνου, αποβολές, ανωμαλίες στο σύστημα αναπαραγωγής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ήμερα η Παγκόσμια Οργάνωση Υγείας θεωρεί το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πιθανή καρκινογόνο ουσί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781680" y="5335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705000" y="182520"/>
            <a:ext cx="22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Στεγνό καθάρισμ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Ένωση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bricare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(Αμερική) το θεωρεί μετρίως τοξικ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βιομηχανία παρασκευής των διαλυτών διαφώνησε και υποστήριξε ότι δεν συμπεριλήφθηκε στις μελέτες ο τρόπος ζωής των εργαζομένω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βιομηχανία των οργανικών διαλυτών διαφώνησε υποστηρίζοντας ότι ο άνθρωπος μεταβολίζει διαφορετικά το τετραχλωροαιθυλένιο από τα ποντίκι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781680" y="5335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705000" y="182520"/>
            <a:ext cx="22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Στεγνό καθάρισμ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371240" y="762120"/>
            <a:ext cx="63342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Πλεονεκτήματ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Είναι ασφαλές για όλα τα κοινά υφάσματα, τις ίνες και τις βαφέ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Είναι αποτελεσματικό για την αφαίρεση λιπαρών λεκέδω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Απομακρύνει τις ανεπιθύμητες οσμέ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Είναι χημικά σταθερ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Δεν είναι διαβρωτικό για τις συσκευέ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Απομακρύνεται εύκολα από τα ρούχ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Μπορεί να ανακυκλωθεί και να επαναχρησιμοποιηθε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Είναι άφλεκτ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781680" y="5335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705000" y="182520"/>
            <a:ext cx="22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Στεγνό καθάρισμ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836720" y="754200"/>
            <a:ext cx="59040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Μειονεκτήματ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440" y="1341000"/>
            <a:ext cx="80629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Προβλήματα υγεία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Άμεσα αποτελέσματα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Ενόχληση της ανώτερης αναπνευστικής οδο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Ίλιγγος, πονοκέφαλος, αναισθησί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Εξασθένιση του συντονισμο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Χρόνια αποτελέσματα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Επιρροή του κεντρικού νευρικού συστήματο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Καρδιακή αρρυθμί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Αδυναμία στη διάκριση των χρωμάτω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Ερεθισμός του δέρματο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781680" y="5335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705000" y="182520"/>
            <a:ext cx="22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Στεγνό καθάρισμ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Βιομηχανική παραγωγή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1850 η βιομηχανία σαπουνιών αναπτύσσεται στην Αμερικ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1916 το πρώτο συνθετικό απορρυπαντικό παρασκευάστηκε στη Γερμανί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1930 στην Αμερική παρασκευάζονται απορρυπαντικά για την καθαριότητα του σπιτιο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1953 οι πωλήσεις απορρυπαντικών στην Αμερική ξεπέρασαν αυτές του σαπουνιο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187280" y="1052640"/>
            <a:ext cx="7118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Επίδραση στην αναπαραγωγή και την ανάπτυξη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371600" y="1628640"/>
            <a:ext cx="7772400" cy="45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Αποβολέ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Εμμηνορροϊκές διαταραχέ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Μειωμένη γονιμότητ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Ανωμαλίες στις γεννήσει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Κίνδυνοι για καρκίνο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Εμφάνιση διαφόρων μορφών καρκίνου (οισοφάγου, νεφρών, πνεύμονα, παγκρέατος και τραχήλου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Εμφάνιση λευχαιμίας στα παιδι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781680" y="5335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705000" y="182520"/>
            <a:ext cx="22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Στεγνό καθάρισμ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7240" y="464760"/>
            <a:ext cx="777240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Περιβαλλοντικά προβλήματ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56275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Καταστροφή της στοιβάδας του όζοντο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8" name="0,1127,1091,00" descr=""/>
          <p:cNvPicPr/>
          <p:nvPr/>
        </p:nvPicPr>
        <p:blipFill>
          <a:blip r:embed="rId1"/>
          <a:stretch/>
        </p:blipFill>
        <p:spPr>
          <a:xfrm>
            <a:off x="5791320" y="1676520"/>
            <a:ext cx="2849400" cy="4176720"/>
          </a:xfrm>
          <a:prstGeom prst="rect">
            <a:avLst/>
          </a:prstGeom>
          <a:ln w="0">
            <a:noFill/>
          </a:ln>
        </p:spPr>
      </p:pic>
      <p:sp>
        <p:nvSpPr>
          <p:cNvPr id="589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0" y="33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5" name=""/>
          <p:cNvGraphicFramePr/>
          <p:nvPr/>
        </p:nvGraphicFramePr>
        <p:xfrm>
          <a:off x="1332000" y="5445000"/>
          <a:ext cx="3887640" cy="8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0" y="5445000"/>
                    <a:ext cx="3887640" cy="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7" name=""/>
          <p:cNvSpPr/>
          <p:nvPr/>
        </p:nvSpPr>
        <p:spPr>
          <a:xfrm>
            <a:off x="6781680" y="5335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705000" y="182520"/>
            <a:ext cx="22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Στεγνό καθάρισμ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9" name=""/>
          <p:cNvGraphicFramePr/>
          <p:nvPr/>
        </p:nvGraphicFramePr>
        <p:xfrm>
          <a:off x="1752480" y="3735360"/>
          <a:ext cx="4021200" cy="73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0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52480" y="3735360"/>
                    <a:ext cx="402120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1" name=""/>
          <p:cNvGraphicFramePr/>
          <p:nvPr/>
        </p:nvGraphicFramePr>
        <p:xfrm>
          <a:off x="533520" y="4479840"/>
          <a:ext cx="5181480" cy="765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0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520" y="4479840"/>
                    <a:ext cx="5181480" cy="7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3" name=""/>
          <p:cNvGraphicFramePr/>
          <p:nvPr/>
        </p:nvGraphicFramePr>
        <p:xfrm>
          <a:off x="533520" y="3043080"/>
          <a:ext cx="5029200" cy="538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0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33520" y="3043080"/>
                    <a:ext cx="502920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5" name=""/>
          <p:cNvGraphicFramePr/>
          <p:nvPr/>
        </p:nvGraphicFramePr>
        <p:xfrm>
          <a:off x="1523880" y="5867280"/>
          <a:ext cx="3353040" cy="505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0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523880" y="5867280"/>
                    <a:ext cx="335304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7" name=""/>
          <p:cNvGraphicFramePr/>
          <p:nvPr/>
        </p:nvGraphicFramePr>
        <p:xfrm>
          <a:off x="533520" y="2200320"/>
          <a:ext cx="5257800" cy="6285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0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33520" y="2200320"/>
                    <a:ext cx="525780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0000"/>
                </a:solidFill>
                <a:latin typeface="Arial"/>
              </a:rPr>
              <a:t>Εναλλακτικά του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ER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74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Y</a:t>
            </a:r>
            <a:r>
              <a:rPr b="0" lang="el-GR" sz="2400" spc="-1" strike="noStrike">
                <a:solidFill>
                  <a:srgbClr val="003300"/>
                </a:solidFill>
                <a:latin typeface="Arial"/>
              </a:rPr>
              <a:t>δατικό καθάρισμ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00"/>
                </a:solidFill>
                <a:latin typeface="Arial"/>
              </a:rPr>
              <a:t>Καθάρισμα με υπερκρίσιμο διοξείδιο του άνθρακα (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1" name="mizucl1" descr=""/>
          <p:cNvPicPr/>
          <p:nvPr/>
        </p:nvPicPr>
        <p:blipFill>
          <a:blip r:embed="rId1"/>
          <a:stretch/>
        </p:blipFill>
        <p:spPr>
          <a:xfrm>
            <a:off x="5724360" y="1989000"/>
            <a:ext cx="2695680" cy="1295640"/>
          </a:xfrm>
          <a:prstGeom prst="rect">
            <a:avLst/>
          </a:prstGeom>
          <a:ln w="0">
            <a:noFill/>
          </a:ln>
        </p:spPr>
      </p:pic>
      <p:pic>
        <p:nvPicPr>
          <p:cNvPr id="612" name="po" descr=""/>
          <p:cNvPicPr/>
          <p:nvPr/>
        </p:nvPicPr>
        <p:blipFill>
          <a:blip r:embed="rId2"/>
          <a:stretch/>
        </p:blipFill>
        <p:spPr>
          <a:xfrm>
            <a:off x="6172200" y="3809880"/>
            <a:ext cx="1760400" cy="2308320"/>
          </a:xfrm>
          <a:prstGeom prst="rect">
            <a:avLst/>
          </a:prstGeom>
          <a:ln w="0">
            <a:noFill/>
          </a:ln>
        </p:spPr>
      </p:pic>
      <p:sp>
        <p:nvSpPr>
          <p:cNvPr id="613" name=""/>
          <p:cNvSpPr/>
          <p:nvPr/>
        </p:nvSpPr>
        <p:spPr>
          <a:xfrm>
            <a:off x="6781680" y="5335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705000" y="182520"/>
            <a:ext cx="22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Στεγνό καθάρισμ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2666880" y="692280"/>
            <a:ext cx="4703760" cy="647640"/>
          </a:xfrm>
          <a:prstGeom prst="ellipse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2590560" y="682560"/>
            <a:ext cx="46479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Υδατικό καθάρισμα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Χρησιμοποιούντα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Νερ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ιδικά απορρυπαντικ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Κατάλληλα πλυντήρι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ροϋπόθεση: ο χειριστής πρέπει να είναι καταρτισμένος σχετικά με τα υφάσματα, τις χρωστικές ουσίες και τον εξοπλισμ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Κατάλληλο για μετάξι, ραιγιόν, πολυεστερικές ίνε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781680" y="5335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705000" y="182520"/>
            <a:ext cx="22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Στεγνό καθάρισμ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/>
          </p:nvPr>
        </p:nvSpPr>
        <p:spPr>
          <a:xfrm>
            <a:off x="826920" y="76464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Πλεονεκτήματ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447920" y="1828800"/>
            <a:ext cx="579096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Το νερό είναι άφλεκτο, μη τοξικό, δεν προκαλεί περιβαλλοντικά προβλήματα, ανακυκλώνετα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Δεν υπάρχουν υπολείμματα διαλύτ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Δεν υπάρχουν υπολείμματα οσμών από το διαλύτ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Δεν καταστρέφονται τα υφάσματ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781680" y="5335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705000" y="182520"/>
            <a:ext cx="22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Στεγνό καθάρισμ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1143000" y="1371600"/>
            <a:ext cx="66294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Μειονεκτήματ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Μεγάλο κόστος αγοράς των μηχανημάτω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Μεγάλο κόστος των ειδικών απορρυπαντικώ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Μεγαλύτερος χρόνος της διαδικασίας καθαρισμο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Δεν καθαρίζονται όλα τα υφάσματα (65- 7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781680" y="5335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705000" y="182520"/>
            <a:ext cx="22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Στεγνό καθάρισμ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1981080" y="685800"/>
            <a:ext cx="7010640" cy="762120"/>
          </a:xfrm>
          <a:prstGeom prst="ellipse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2133720" y="644400"/>
            <a:ext cx="68580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Υπερκρίσιμο διοξείδιο του άνθρακα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09480" y="2421000"/>
            <a:ext cx="2882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Υπερκρίσιμο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νατάραξ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781680" y="5335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705000" y="182520"/>
            <a:ext cx="22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Στεγνό καθάρισμ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2" name="ppp" descr=""/>
          <p:cNvPicPr/>
          <p:nvPr/>
        </p:nvPicPr>
        <p:blipFill>
          <a:blip r:embed="rId1"/>
          <a:stretch/>
        </p:blipFill>
        <p:spPr>
          <a:xfrm>
            <a:off x="3124080" y="1600200"/>
            <a:ext cx="6956640" cy="5684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Διαδικασία καθαρισμού με υπερκρίσιμο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33520" y="2590920"/>
            <a:ext cx="29718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Θάλαμος καθαρισμο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Δεξαμενή ανεφοδιασμο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Σύστημα ανακύκλωσ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- 95% ανάκτησ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781680" y="5335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705000" y="182520"/>
            <a:ext cx="22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Στεγνό καθάρισμ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7" name="sxhma" descr=""/>
          <p:cNvPicPr/>
          <p:nvPr/>
        </p:nvPicPr>
        <p:blipFill>
          <a:blip r:embed="rId1"/>
          <a:stretch/>
        </p:blipFill>
        <p:spPr>
          <a:xfrm>
            <a:off x="3200400" y="1486080"/>
            <a:ext cx="6019920" cy="4860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547640" y="907560"/>
            <a:ext cx="6553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Πλεονεκτήματα καθαρισμού με</a:t>
            </a:r>
            <a:r>
              <a:rPr b="1" lang="el-G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971640" y="1557360"/>
            <a:ext cx="786744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Το υ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ερκρίσιμο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Είναι άφλεκτ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Είναι άοσμ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Δεν καταστρέφει τη στιβάδα του όζοντο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Είναι ανακυκλώσιμο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Είναι παραπροϊόν βιομηχανικών διεργασιώ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αραλαμβάνεται από την ατμόσφαιρα συμβάλλοντας στη μείωση του </a:t>
            </a:r>
            <a:r>
              <a:rPr b="0" lang="el-GR" sz="2400" spc="-1" strike="noStrike" u="sng">
                <a:solidFill>
                  <a:srgbClr val="008000"/>
                </a:solidFill>
                <a:uFillTx/>
                <a:latin typeface="Arial"/>
                <a:ea typeface="Arial"/>
                <a:hlinkClick r:id="rId1" action="ppaction://hlinksldjump"/>
              </a:rPr>
              <a:t>φαινομένου του θερμοκηπίο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781680" y="5335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705000" y="182520"/>
            <a:ext cx="22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Στεγνό καθάρισμ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Με τη διαδικασία καθαρισμού μ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Δεν παράγονται επιβλαβή απόβλητ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Δεν υπάρχει πρόβλημα όσον αφορά τη διαχείριση και τη διάθεσή του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φαιρούνται αποτελεσματικά οι λεκέδε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αρεμποδίζεται το κιτρίνισμα των ρούχων (γάριασμα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Χρησιμοποιείται στα χρωματιστά ρούχ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ειώνεται ο συνολικός χρόνος καθαρισμο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781680" y="5335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705000" y="182520"/>
            <a:ext cx="22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Στεγνό καθάρισμ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723888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Δεκαετία 19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κόνες για το πλύσιμο των πιάτω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αλακτικά, απορρυπαντικά με ενεργό οξυγόν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Δεκαετία 19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ρόπλυση και αφαιρετικά λεκέδων από χρωστικέ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κόνες για πλύσιμο ρούχων με ένζυμ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Δεκαετία 19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Υγρά σαπούνια για τα χέρι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ολυδραστικά προϊόντ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238880" y="1052640"/>
            <a:ext cx="1081080" cy="1152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7238880" y="3276720"/>
            <a:ext cx="1033560" cy="1224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7238880" y="5011560"/>
            <a:ext cx="955800" cy="1297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Το φαινόμενο του θερμοκηπίο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6" name="p3-1" descr=""/>
          <p:cNvPicPr/>
          <p:nvPr/>
        </p:nvPicPr>
        <p:blipFill>
          <a:blip r:embed="rId1"/>
          <a:stretch/>
        </p:blipFill>
        <p:spPr>
          <a:xfrm>
            <a:off x="3511440" y="2060640"/>
            <a:ext cx="5327640" cy="3789360"/>
          </a:xfrm>
          <a:prstGeom prst="rect">
            <a:avLst/>
          </a:prstGeom>
          <a:ln w="0">
            <a:noFill/>
          </a:ln>
        </p:spPr>
      </p:pic>
      <p:sp>
        <p:nvSpPr>
          <p:cNvPr id="647" name="">
            <a:hlinkClick r:id="rId2" action="ppaction://hlinksldjump"/>
          </p:cNvPr>
          <p:cNvSpPr/>
          <p:nvPr/>
        </p:nvSpPr>
        <p:spPr>
          <a:xfrm>
            <a:off x="7696080" y="5943600"/>
            <a:ext cx="990720" cy="533520"/>
          </a:xfrm>
          <a:prstGeom prst="leftArrow">
            <a:avLst>
              <a:gd name="adj1" fmla="val 50000"/>
              <a:gd name="adj2" fmla="val 46424"/>
            </a:avLst>
          </a:prstGeom>
          <a:solidFill>
            <a:srgbClr val="008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8520" y="2203560"/>
            <a:ext cx="31096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N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Χλωροφθοράνθρακε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ειονεκτήματα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ήξη των πάγω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λλαγή κλίματο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αράσιτα, έντομ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781680" y="5335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705000" y="182520"/>
            <a:ext cx="22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Στεγνό καθάρισμ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dry-cleaning4" descr=""/>
          <p:cNvPicPr/>
          <p:nvPr/>
        </p:nvPicPr>
        <p:blipFill>
          <a:blip r:embed="rId1"/>
          <a:stretch/>
        </p:blipFill>
        <p:spPr>
          <a:xfrm>
            <a:off x="5003640" y="2133720"/>
            <a:ext cx="3810240" cy="2857320"/>
          </a:xfrm>
          <a:prstGeom prst="rect">
            <a:avLst/>
          </a:prstGeom>
          <a:ln w="0">
            <a:noFill/>
          </a:ln>
        </p:spPr>
      </p:pic>
      <p:sp>
        <p:nvSpPr>
          <p:cNvPr id="652" name="">
            <a:hlinkClick r:id="rId2" action="ppaction://hlinksldjump"/>
          </p:cNvPr>
          <p:cNvSpPr/>
          <p:nvPr/>
        </p:nvSpPr>
        <p:spPr>
          <a:xfrm>
            <a:off x="7696080" y="5943600"/>
            <a:ext cx="990720" cy="533520"/>
          </a:xfrm>
          <a:prstGeom prst="leftArrow">
            <a:avLst>
              <a:gd name="adj1" fmla="val 50000"/>
              <a:gd name="adj2" fmla="val 46424"/>
            </a:avLst>
          </a:prstGeom>
          <a:solidFill>
            <a:srgbClr val="008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0000"/>
                </a:solidFill>
                <a:latin typeface="Arial"/>
              </a:rPr>
              <a:t>Μειονεκτήματα του καθαρισμού με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43927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φαρμογή μεγάλων πιέσεων (72,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m)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για τη μετατροπή του σε υπερκρίσιμο ρευστ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εγάλο κόστος για την αγορά των μηχανημάτω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781680" y="5335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705000" y="182520"/>
            <a:ext cx="22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Στεγνό καθάρισμ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2195640" y="549360"/>
            <a:ext cx="5759280" cy="7920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340000" y="677880"/>
            <a:ext cx="554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Χλωρίνη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042920" y="1557360"/>
            <a:ext cx="84582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ee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Cl + HO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rtholle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2KOH      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Cl + KCl +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arraqu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2NaO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OCl + NaCl +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191120" y="1295280"/>
            <a:ext cx="45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191120" y="1295280"/>
            <a:ext cx="533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356000" y="227664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788000" y="3429000"/>
            <a:ext cx="457200" cy="76320"/>
          </a:xfrm>
          <a:prstGeom prst="rightArrow">
            <a:avLst>
              <a:gd name="adj1" fmla="val 50000"/>
              <a:gd name="adj2" fmla="val 1497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572000" y="2852640"/>
            <a:ext cx="457200" cy="76320"/>
          </a:xfrm>
          <a:prstGeom prst="rightArrow">
            <a:avLst>
              <a:gd name="adj1" fmla="val 50000"/>
              <a:gd name="adj2" fmla="val 1497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5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295280" cy="898560"/>
          </a:xfrm>
          <a:prstGeom prst="rect">
            <a:avLst/>
          </a:prstGeom>
          <a:ln w="0">
            <a:noFill/>
          </a:ln>
        </p:spPr>
      </p:pic>
      <p:pic>
        <p:nvPicPr>
          <p:cNvPr id="666" name="" descr=""/>
          <p:cNvPicPr/>
          <p:nvPr/>
        </p:nvPicPr>
        <p:blipFill>
          <a:blip r:embed="rId2"/>
          <a:stretch/>
        </p:blipFill>
        <p:spPr>
          <a:xfrm>
            <a:off x="3794040" y="4419720"/>
            <a:ext cx="2301840" cy="191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7334280" y="1159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Χλωρίν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907400" y="476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9" name="xlorini" descr=""/>
          <p:cNvPicPr/>
          <p:nvPr/>
        </p:nvPicPr>
        <p:blipFill>
          <a:blip r:embed="rId1"/>
          <a:stretch/>
        </p:blipFill>
        <p:spPr>
          <a:xfrm>
            <a:off x="3382920" y="4572000"/>
            <a:ext cx="2560680" cy="1981080"/>
          </a:xfrm>
          <a:prstGeom prst="rect">
            <a:avLst/>
          </a:prstGeom>
          <a:ln w="0">
            <a:noFill/>
          </a:ln>
        </p:spPr>
      </p:pic>
      <p:sp>
        <p:nvSpPr>
          <p:cNvPr id="670" name=""/>
          <p:cNvSpPr/>
          <p:nvPr/>
        </p:nvSpPr>
        <p:spPr>
          <a:xfrm>
            <a:off x="1905120" y="1143000"/>
            <a:ext cx="640872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Πλεονεκτήματα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Οξειδώνει το λεκέ και βοηθά στην απομάκρυνση από το υπόστρωμ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Δρα σαν απολυμαντικό και καταπολεμά τα βακτήρια και τους ιού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Έχει λευκαντικές ιδιότητε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1908000" y="907920"/>
            <a:ext cx="5712120" cy="64800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905120" y="965160"/>
            <a:ext cx="556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Μειονεκτήματα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822240" y="1417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4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295280" cy="898560"/>
          </a:xfrm>
          <a:prstGeom prst="rect">
            <a:avLst/>
          </a:prstGeom>
          <a:ln w="0">
            <a:noFill/>
          </a:ln>
        </p:spPr>
      </p:pic>
      <p:sp>
        <p:nvSpPr>
          <p:cNvPr id="675" name=""/>
          <p:cNvSpPr/>
          <p:nvPr/>
        </p:nvSpPr>
        <p:spPr>
          <a:xfrm>
            <a:off x="6705720" y="289080"/>
            <a:ext cx="2133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9480" y="1697040"/>
            <a:ext cx="769644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χηματίζονται οργανοχλωριωμένες ενώσει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Κατά την ανάμειξη με αμμωνία ή οξύ σχηματίζονται τοξικά αέρι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ροκαλεί θανάτωση της πανίδας του φυσικού αποδέκτ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ροκαλεί αλλεργίες και ερεθισμούς σε πολλούς ανθρώπου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Υπολειμματικό χλώριο είναι τοξικό για ορισμένες κατηγορίες ψαριώ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885080" y="476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315200" y="1159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Χλωρίν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>
            <a:off x="1752480" y="762120"/>
            <a:ext cx="6346800" cy="1218960"/>
          </a:xfrm>
          <a:prstGeom prst="ellipse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066680" y="457200"/>
            <a:ext cx="678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9907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295280" cy="898560"/>
          </a:xfrm>
          <a:prstGeom prst="rect">
            <a:avLst/>
          </a:prstGeom>
          <a:ln w="0">
            <a:noFill/>
          </a:ln>
        </p:spPr>
      </p:pic>
      <p:sp>
        <p:nvSpPr>
          <p:cNvPr id="683" name=""/>
          <p:cNvSpPr/>
          <p:nvPr/>
        </p:nvSpPr>
        <p:spPr>
          <a:xfrm>
            <a:off x="1219320" y="609480"/>
            <a:ext cx="6781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835280" y="95076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5" name="" descr=""/>
          <p:cNvPicPr/>
          <p:nvPr/>
        </p:nvPicPr>
        <p:blipFill>
          <a:blip r:embed="rId2"/>
          <a:stretch/>
        </p:blipFill>
        <p:spPr>
          <a:xfrm>
            <a:off x="3429000" y="4838760"/>
            <a:ext cx="2035080" cy="1485720"/>
          </a:xfrm>
          <a:prstGeom prst="rect">
            <a:avLst/>
          </a:prstGeom>
          <a:ln w="0">
            <a:noFill/>
          </a:ln>
        </p:spPr>
      </p:pic>
      <p:sp>
        <p:nvSpPr>
          <p:cNvPr id="686" name=""/>
          <p:cNvSpPr/>
          <p:nvPr/>
        </p:nvSpPr>
        <p:spPr>
          <a:xfrm>
            <a:off x="1835280" y="950760"/>
            <a:ext cx="6324480" cy="15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0000"/>
                </a:solidFill>
                <a:latin typeface="Arial"/>
              </a:rPr>
              <a:t>Ανόργανες ενώσεις που εκλύουν οξυγόνο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09480" y="1600200"/>
            <a:ext cx="76964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Κυκλοφορούν στο εμπόριο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κόνη: υπερβορικό νάτριο, υπερανθρακικό νάτριο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2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        N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Υγρή: υπεροξείδιο του υδρογόνου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885080" y="476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7315200" y="1159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Χλωρίν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900000" y="1268280"/>
            <a:ext cx="769644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Πλεονεκτήματα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Δεν είναι τοξικές ενώσει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Καταπολεμούν τα βακτήρια και τους ιού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Είναι αποτελεσματικά ως προς την καθαριστική τους ικανότητ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Μπορούν να χρησιμοποιηθούν σε πολλές ίνε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Κατά την πλύση οι ίνες γίνονται πιο λαμπερέ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Μπορούν να αναμειχθούν με άλλα προϊόντ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Είναι φιλικές προς το περιβάλλο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885080" y="476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315200" y="1159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Χλωρίν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oxi" descr=""/>
          <p:cNvPicPr/>
          <p:nvPr/>
        </p:nvPicPr>
        <p:blipFill>
          <a:blip r:embed="rId1"/>
          <a:stretch/>
        </p:blipFill>
        <p:spPr>
          <a:xfrm>
            <a:off x="5902200" y="2133720"/>
            <a:ext cx="1737000" cy="1904760"/>
          </a:xfrm>
          <a:prstGeom prst="rect">
            <a:avLst/>
          </a:prstGeom>
          <a:ln w="0">
            <a:noFill/>
          </a:ln>
        </p:spPr>
      </p:pic>
      <p:sp>
        <p:nvSpPr>
          <p:cNvPr id="694" name=""/>
          <p:cNvSpPr/>
          <p:nvPr/>
        </p:nvSpPr>
        <p:spPr>
          <a:xfrm>
            <a:off x="1981080" y="533520"/>
            <a:ext cx="632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Πράσινη λύση: υπερβορικό και ανθρακικό νάτρι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09480" y="1465200"/>
            <a:ext cx="769644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Πλεονεκτήματα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Είναι σταθερ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Είναι πιο εύχρηστ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Μειονεκτήματα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Είναι πιο ακριβ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Αργεί η διάλυσή τους στο νερ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Απαιτείται μεγαλύτερος χρόνος δράσ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Δεν είναι κατάλληλα για ορισμένες ίνε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885080" y="476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7315200" y="1159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Χλωρίν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>
            <a:hlinkClick r:id="rId1" action="ppaction://hlinksldjump"/>
          </p:cNvPr>
          <p:cNvSpPr/>
          <p:nvPr/>
        </p:nvSpPr>
        <p:spPr>
          <a:xfrm>
            <a:off x="7696080" y="5943600"/>
            <a:ext cx="990720" cy="533520"/>
          </a:xfrm>
          <a:prstGeom prst="leftArrow">
            <a:avLst>
              <a:gd name="adj1" fmla="val 50000"/>
              <a:gd name="adj2" fmla="val 46424"/>
            </a:avLst>
          </a:prstGeom>
          <a:solidFill>
            <a:srgbClr val="008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981080" y="685800"/>
            <a:ext cx="6324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Πράσινη λύση: υπεροξείδιο του υδρογόνο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09480" y="1606680"/>
            <a:ext cx="7696440" cy="49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Πλεονεκτήματα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Είναι πιο φτηνά από αυτά σε σκόνη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Είναι έτοιμα για χρήσ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Μειονεκτήματα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Είναι λιγότερο σταθερ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Δεν είναι κατάλληλα για ορισμένες ίνε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885080" y="476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315200" y="1159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Χλωρίν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2195640" y="549360"/>
            <a:ext cx="5759280" cy="7920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57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Καθαριότητα σώματο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5" name="shamp" descr=""/>
          <p:cNvPicPr/>
          <p:nvPr/>
        </p:nvPicPr>
        <p:blipFill>
          <a:blip r:embed="rId1"/>
          <a:stretch/>
        </p:blipFill>
        <p:spPr>
          <a:xfrm>
            <a:off x="5867280" y="1676520"/>
            <a:ext cx="1874880" cy="2697120"/>
          </a:xfrm>
          <a:prstGeom prst="rect">
            <a:avLst/>
          </a:prstGeom>
          <a:ln w="0">
            <a:noFill/>
          </a:ln>
        </p:spPr>
      </p:pic>
      <p:pic>
        <p:nvPicPr>
          <p:cNvPr id="706" name="tooth" descr=""/>
          <p:cNvPicPr/>
          <p:nvPr/>
        </p:nvPicPr>
        <p:blipFill>
          <a:blip r:embed="rId2"/>
          <a:stretch/>
        </p:blipFill>
        <p:spPr>
          <a:xfrm>
            <a:off x="4952880" y="4343400"/>
            <a:ext cx="2868840" cy="1908000"/>
          </a:xfrm>
          <a:prstGeom prst="rect">
            <a:avLst/>
          </a:prstGeom>
          <a:ln w="0">
            <a:noFill/>
          </a:ln>
        </p:spPr>
      </p:pic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1619280" y="2491920"/>
            <a:ext cx="316872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Σαμπουάν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Αφρόλουτρα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Οδοντόκρεμε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na Dimitriadou</cp:lastModifiedBy>
  <dcterms:modified xsi:type="dcterms:W3CDTF">2004-05-22T23:19:58Z</dcterms:modified>
  <cp:revision>98</cp:revision>
  <dc:subject/>
  <dc:title>Χημεία και Καθημερινή Ζωή. Η Χημεία της Καθαριότητας.  Η Πράσινη Προσέγγιση.</dc:title>
</cp:coreProperties>
</file>